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2C9-5CF3-416D-9394-4988179C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9A0-16C6-40D3-8ED0-861756F1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D4F-C952-4136-8E59-D4A257DB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8DA-B1C0-4D1D-BF3A-6F0330FA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1731-FFD2-4F57-A786-8B5F0171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EB26-07B3-43D1-AE50-11B916B6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03A0-2E9B-47B0-BEFB-5257E4C3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EAE5-10A3-4BEE-B006-71EE44FB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39C8-BEAE-4AF6-9B1C-EEE429ED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ECDF-912A-437F-852D-04130493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0740-EFC7-4867-BC49-289C9767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079-E493-4E01-8FAF-B5F0A442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B8D3-103F-43E8-8A4D-C225BA18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EB76-49F0-4F06-83C8-674FBE3D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4390-3E8B-4C37-94E4-DA383679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D8A1-E745-4B5C-8B01-A22E45E9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35D0-AF1A-499E-B5CD-400FECA9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67A-DAA1-4833-BA5B-B126D02E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C13-8FDC-4A89-999D-D82B24B4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6C8-04C4-434B-9FD5-3D7AEA6D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55E-39BF-4114-B983-0E27C1FD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1FB-1602-4103-8BE4-31A5BDC2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ABC-CBF6-43E4-9A7C-787E8851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24B-1A1D-456B-91ED-4AAF4D6E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8D69-FA6C-47A1-A698-9F3F076EA6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582F-DB81-4B6A-9418-923231295F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wman.ru/graphics/newgraphics.htm" TargetMode="External"/><Relationship Id="rId2" Type="http://schemas.openxmlformats.org/officeDocument/2006/relationships/hyperlink" Target="http://www.swman.ru/trenager/trenag30.htm" TargetMode="External"/><Relationship Id="rId3" Type="http://schemas.openxmlformats.org/officeDocument/2006/relationships/hyperlink" Target="http://www.swman.ru/trenager/trenag30.htm" TargetMode="External"/><Relationship Id="rId4" Type="http://schemas.openxmlformats.org/officeDocument/2006/relationships/hyperlink" Target="http://www.swman.ru/operlog/operlog_advert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Что такое МОДУС?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2060640"/>
            <a:ext cx="67816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плекс МОДУС - это программное обеспечения для оперативно-диспетчерских служб предприятий электроэнергети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Области применения </a:t>
            </a:r>
            <a:br>
              <a:rPr sz="4400"/>
            </a:b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ПО Модус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ование электрических и тепловых схем энергетических объектов, а также схем релейной защиты и автоматики в </a:t>
            </a:r>
            <a:r>
              <a:rPr b="0" lang="en-US" sz="2800" spc="-1" strike="noStrike" u="sng">
                <a:solidFill>
                  <a:srgbClr val="3dccff"/>
                </a:solidFill>
                <a:uFillTx/>
                <a:latin typeface="Arial"/>
                <a:hlinkClick r:id="rId1"/>
              </a:rPr>
              <a:t>системах электронного документооборот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dccff"/>
                </a:solidFill>
                <a:uFillTx/>
                <a:latin typeface="Arial"/>
                <a:hlinkClick r:id="rId2"/>
              </a:rPr>
              <a:t>Обучение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дежурного персонала станций и подстанций, диспетчеров распределительных и питающих сетей проведению </a:t>
            </a:r>
            <a:r>
              <a:rPr b="0" lang="en-US" sz="2800" spc="-1" strike="noStrike" u="sng">
                <a:solidFill>
                  <a:srgbClr val="3dccff"/>
                </a:solidFill>
                <a:uFillTx/>
                <a:latin typeface="Arial"/>
                <a:hlinkClick r:id="rId3"/>
              </a:rPr>
              <a:t>оперативных переключений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 Проведение противоаварийных тренировок. Проверка знаний и проведение соревно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я </a:t>
            </a:r>
            <a:r>
              <a:rPr b="0" lang="en-US" sz="2800" spc="-1" strike="noStrike" u="sng">
                <a:solidFill>
                  <a:srgbClr val="3dccff"/>
                </a:solidFill>
                <a:uFillTx/>
                <a:latin typeface="Arial"/>
                <a:hlinkClick r:id="rId4"/>
              </a:rPr>
              <a:t>рабочего мест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оперативно-диспетчерского персона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Подсистемы комплекса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91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фическая под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нажерная под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система интеграции д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система ведения оперативной схемы и электронного журн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Формы сотрудничества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946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авка «коробочного» П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недрение проектов «под ключ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заимодействие с разработчиками при интеграции ПО Модус и ПО других производителей, выбранных заказчи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сультирование (авторское сопровождени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Модус сейчас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копроизводительная расширяемая графическ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ктроэнергет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зможности визуальной разработки набора моделей предметн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грированная платформа построения пользовательского интерфейса верхнего уровня для диспетчерского управления и технологических приме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никальные технологии организации диспетчерской рабо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ведения мнемосхемы и электронного журнала, Бланки переключ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етчерские тренажеры любого уров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C 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еш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грация с СУБ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оло 40 исполняемых модулей в систе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8:01:22Z</dcterms:created>
  <dc:creator>Сергей Амелин</dc:creator>
  <dc:description/>
  <dc:language>en-US</dc:language>
  <cp:lastModifiedBy>SV</cp:lastModifiedBy>
  <dcterms:modified xsi:type="dcterms:W3CDTF">2006-06-18T12:21:44Z</dcterms:modified>
  <cp:revision>136</cp:revision>
  <dc:subject/>
  <dc:title>Slide 1</dc:title>
</cp:coreProperties>
</file>