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7093-84BE-4895-9A5A-A4F7C2D38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87B1-864D-4F2E-B754-3DB88151D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630C-A0C7-4DA5-AEC3-30B03DD9E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0B5-4D89-497C-8A77-70EF076C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849-0AB3-4403-8E71-2A2D8B0A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EA7-4FA6-404B-8FD8-1FFDDD7F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E8C-C4D0-4F60-9A63-EBD65FD4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54B-6481-48EE-895D-290EDA0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591-0BF8-4F53-AA48-38B3CD17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AA6-FD1C-4993-BA45-73334FBA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DC8-0189-4D64-A48C-C4C405EE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7C2-36F3-4D16-9E81-9F087CFA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5A1-6ED8-48B4-BB4C-4DE7A59A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218-CE50-45D6-BD10-4F52A3DD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FE3-3D0E-4749-87EF-02A6CAC9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456B-D34E-4B13-BC7B-560A74C81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wman.r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рафическая система Модус 5.10. как инструмент подготовки данных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ata Engineering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IM –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мод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чик к.т.н. Амелин С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200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Мод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wman.r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modus@swma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. Москва, ул. Казакова д.25 стр.4 офис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499) 267-7959, (495) 642-8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enu_modus"/>
          <p:cNvPicPr/>
          <p:nvPr/>
        </p:nvPicPr>
        <p:blipFill>
          <a:blip r:embed="rId2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152280" y="152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дель телеизме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419720" cy="3395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152280" y="441972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  «прибор цифровой».  Набор пара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4114800" cy="8017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10"/>
          <p:cNvSpPr/>
          <p:nvPr/>
        </p:nvSpPr>
        <p:spPr>
          <a:xfrm flipV="1">
            <a:off x="912960" y="3430080"/>
            <a:ext cx="288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3"/>
          <p:cNvSpPr/>
          <p:nvPr/>
        </p:nvSpPr>
        <p:spPr>
          <a:xfrm flipH="1" flipV="1">
            <a:off x="457200" y="3352320"/>
            <a:ext cx="45720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0" y="5638680"/>
            <a:ext cx="548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ключ привязки присваивается прибору и элементу схемы, к которому относится измерение. Параметр «назначение привязки» определя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ряемую велич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3456000" cy="18478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120" name="TextBox 11"/>
          <p:cNvSpPr/>
          <p:nvPr/>
        </p:nvSpPr>
        <p:spPr>
          <a:xfrm>
            <a:off x="4952880" y="99072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ающей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модели измерение привязано к соответствующему оборудованию и термин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4"/>
          <a:stretch/>
        </p:blipFill>
        <p:spPr>
          <a:xfrm>
            <a:off x="6781680" y="3733920"/>
            <a:ext cx="2019600" cy="2793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cxnSp>
        <p:nvCxnSpPr>
          <p:cNvPr id="122" name="Прямая со стрелкой 18"/>
          <p:cNvCxnSpPr/>
          <p:nvPr/>
        </p:nvCxnSpPr>
        <p:spPr>
          <a:xfrm>
            <a:off x="1523520" y="3352680"/>
            <a:ext cx="5715720" cy="1905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3" name="Прямая со стрелкой 21"/>
          <p:cNvCxnSpPr/>
          <p:nvPr/>
        </p:nvCxnSpPr>
        <p:spPr>
          <a:xfrm>
            <a:off x="914040" y="3200400"/>
            <a:ext cx="6553800" cy="2667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52280" y="152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дель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7792920" cy="4724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81440" y="76212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ном комплексе Модус модель защиты строится автома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анных о топологии схемы и информации о типах обору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лассе напряжения защищаемых з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2171880" cy="3362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2209680" y="5867280"/>
            <a:ext cx="2443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4"/>
          <p:cNvSpPr/>
          <p:nvPr/>
        </p:nvSpPr>
        <p:spPr>
          <a:xfrm>
            <a:off x="0" y="152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дель защиты. Состав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828800"/>
          <a:ext cx="8610480" cy="1447920"/>
        </p:xfrm>
        <a:graphic>
          <a:graphicData uri="http://schemas.openxmlformats.org/drawingml/2006/table">
            <a:tbl>
              <a:tblPr/>
              <a:tblGrid>
                <a:gridCol w="2246400"/>
                <a:gridCol w="954000"/>
                <a:gridCol w="541008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yDelayTim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Выдержка времени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con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емя задержки срабатывания реле в секундах с момента выявления ненормальных условий до момента срабатывания рел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i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lo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симальное допустимое значени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Li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lo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имальное допустимое значени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erDirectionFlag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правлени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oole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правление, совпадающее с положительным направлением активной мощ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0" y="3657600"/>
          <a:ext cx="8915400" cy="1562040"/>
        </p:xfrm>
        <a:graphic>
          <a:graphicData uri="http://schemas.openxmlformats.org/drawingml/2006/table">
            <a:tbl>
              <a:tblPr/>
              <a:tblGrid>
                <a:gridCol w="835200"/>
                <a:gridCol w="1515960"/>
                <a:gridCol w="1208160"/>
                <a:gridCol w="1269720"/>
                <a:gridCol w="408636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.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ucting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ments </a:t>
                      </a:r>
                      <a:br>
                        <a:rPr sz="12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опроводящее оборудование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.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nducting</a:t>
                      </a:r>
                      <a:br>
                        <a:rPr sz="1200"/>
                      </a:b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Equi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ройство защиты может использоваться для защиты определенного Токопроводящего оборудования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uctingEquipme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. Несколько элементов оборудования могут контролироваться или защищаться несколькими устройствами защит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.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es_Breakers</a:t>
                      </a:r>
                      <a:br>
                        <a:rPr sz="12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равляет выключателями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.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Break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ле защиты могут управлять выключателя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Прямоугольник 11"/>
          <p:cNvSpPr/>
          <p:nvPr/>
        </p:nvSpPr>
        <p:spPr>
          <a:xfrm>
            <a:off x="152280" y="8380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защиты (ProtectionEqui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265680" y="1219320"/>
            <a:ext cx="718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атрибуты устройства защиты – могут быть отредактированы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нены в документе сх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3"/>
          <p:cNvSpPr/>
          <p:nvPr/>
        </p:nvSpPr>
        <p:spPr>
          <a:xfrm>
            <a:off x="152280" y="33526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социации устройства защиты – строятся автомати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4"/>
          <p:cNvSpPr/>
          <p:nvPr/>
        </p:nvSpPr>
        <p:spPr>
          <a:xfrm>
            <a:off x="228600" y="5181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устройства защит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заполняется автоматиче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5"/>
          <p:cNvSpPr/>
          <p:nvPr/>
        </p:nvSpPr>
        <p:spPr>
          <a:xfrm>
            <a:off x="304920" y="5562720"/>
            <a:ext cx="86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рибут typeName является идентификатором типа, определенным стандартом IEC 61850, с префиксом Pro_. Например, для реле максимального напряжения (overvoltage relay) этот атрибут будет Pro_OV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152280" y="152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ы идент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58120" y="914400"/>
            <a:ext cx="68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сть строковой идентификации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im:Terminal rdf:ID="_00000845000000000002000000000000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94400" y="1600200"/>
            <a:ext cx="908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я в виде стро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кальность в пределах проекта (по возможности глоба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ел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восстановления типа и примерного места установки обору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одержимому идентифик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-203040" y="3352680"/>
            <a:ext cx="68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ы идентификато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 привязки Мод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ЭП220_МЭ_С21_МЭ_837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лассификатор ЕСКК (Ф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A03E01-QC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A03A01-WW01.CA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GUID (Globally Unique Identif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{6F9619FF-8B86-D011-B42D-00CF4FC964FF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55960" y="5715000"/>
            <a:ext cx="83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идентификации не связана напрямую с требования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ются те идентификаторы, которые назначены в сх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28164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озит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omposite"/>
          <p:cNvPicPr/>
          <p:nvPr/>
        </p:nvPicPr>
        <p:blipFill>
          <a:blip r:embed="rId1"/>
          <a:stretch/>
        </p:blipFill>
        <p:spPr>
          <a:xfrm>
            <a:off x="4768920" y="3079800"/>
            <a:ext cx="4095720" cy="3397320"/>
          </a:xfrm>
          <a:prstGeom prst="rect">
            <a:avLst/>
          </a:prstGeom>
          <a:ln w="25560">
            <a:solidFill>
              <a:srgbClr val="00b0f0"/>
            </a:solidFill>
            <a:miter/>
          </a:ln>
        </p:spPr>
      </p:pic>
      <p:sp>
        <p:nvSpPr>
          <p:cNvPr id="144" name="TextBox 4"/>
          <p:cNvSpPr/>
          <p:nvPr/>
        </p:nvSpPr>
        <p:spPr>
          <a:xfrm>
            <a:off x="0" y="7621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оздания компактных схем мы используем «композитные» элемен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четают несколько коммутационных аппаратов в одном графическом примити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ют полностью смоделировать состав, состояние и коммутации всех коммутационных аппаратов в присоедин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, получающаяся из них, также эквивалентна модели, состоящей из отдель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28600" y="3038400"/>
            <a:ext cx="4419720" cy="3457800"/>
          </a:xfrm>
          <a:prstGeom prst="rect">
            <a:avLst/>
          </a:prstGeom>
          <a:ln w="255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мпорт  схем из форматов, не поддерживающих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IM-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о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acad"/>
          <p:cNvPicPr/>
          <p:nvPr/>
        </p:nvPicPr>
        <p:blipFill>
          <a:blip r:embed="rId1"/>
          <a:stretch/>
        </p:blipFill>
        <p:spPr>
          <a:xfrm>
            <a:off x="304920" y="1752480"/>
            <a:ext cx="3265200" cy="2698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sde"/>
          <p:cNvPicPr/>
          <p:nvPr/>
        </p:nvPicPr>
        <p:blipFill>
          <a:blip r:embed="rId2"/>
          <a:stretch/>
        </p:blipFill>
        <p:spPr>
          <a:xfrm>
            <a:off x="5029200" y="1752480"/>
            <a:ext cx="3733920" cy="27259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9" name="Стрелка вправо 7"/>
          <p:cNvSpPr/>
          <p:nvPr/>
        </p:nvSpPr>
        <p:spPr>
          <a:xfrm>
            <a:off x="3733920" y="2743200"/>
            <a:ext cx="1218960" cy="6858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1302840" y="1371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6402960" y="13716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2666880" cy="2282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4"/>
          <a:stretch/>
        </p:blipFill>
        <p:spPr>
          <a:xfrm>
            <a:off x="6248520" y="5029200"/>
            <a:ext cx="22651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152280" y="457200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стройка соответствия символов Автокад и элементов Мод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5"/>
          <p:cNvSpPr/>
          <p:nvPr/>
        </p:nvSpPr>
        <p:spPr>
          <a:xfrm>
            <a:off x="5791320" y="4800600"/>
            <a:ext cx="3200400" cy="1752480"/>
          </a:xfrm>
          <a:prstGeom prst="ellipse">
            <a:avLst/>
          </a:prstGeom>
          <a:noFill/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7"/>
          <p:cNvSpPr/>
          <p:nvPr/>
        </p:nvSpPr>
        <p:spPr>
          <a:xfrm flipH="1" flipV="1">
            <a:off x="3962520" y="5562360"/>
            <a:ext cx="1828800" cy="11412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28600" y="5715000"/>
            <a:ext cx="198108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152280" y="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мпорт  схем из форматов, не поддерживающих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IM-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о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с одним вырезанным углом 4"/>
          <p:cNvSpPr/>
          <p:nvPr/>
        </p:nvSpPr>
        <p:spPr>
          <a:xfrm>
            <a:off x="228600" y="1295280"/>
            <a:ext cx="3809880" cy="762120"/>
          </a:xfrm>
          <a:prstGeom prst="pie">
            <a:avLst/>
          </a:prstGeom>
          <a:solidFill>
            <a:srgbClr val="ff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хем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utoCAD (Vis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с одним вырезанным углом 6"/>
          <p:cNvSpPr/>
          <p:nvPr/>
        </p:nvSpPr>
        <p:spPr>
          <a:xfrm>
            <a:off x="4572000" y="1371600"/>
            <a:ext cx="380988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хем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дус без т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1762560" y="205740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йка соответств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вер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с одним вырезанным углом 8"/>
          <p:cNvSpPr/>
          <p:nvPr/>
        </p:nvSpPr>
        <p:spPr>
          <a:xfrm>
            <a:off x="228600" y="2743200"/>
            <a:ext cx="8686800" cy="762120"/>
          </a:xfrm>
          <a:prstGeom prst="pie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хем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дус с т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ло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Стрелка вниз 9"/>
          <p:cNvGrpSpPr/>
          <p:nvPr/>
        </p:nvGrpSpPr>
        <p:grpSpPr>
          <a:xfrm>
            <a:off x="5505480" y="2023920"/>
            <a:ext cx="596880" cy="792360"/>
            <a:chOff x="5505480" y="2023920"/>
            <a:chExt cx="596880" cy="792360"/>
          </a:xfrm>
        </p:grpSpPr>
        <p:pic>
          <p:nvPicPr>
            <p:cNvPr id="164" name="Стрелка вниз 9" descr=""/>
            <p:cNvPicPr/>
            <p:nvPr/>
          </p:nvPicPr>
          <p:blipFill>
            <a:blip r:embed="rId1"/>
            <a:stretch/>
          </p:blipFill>
          <p:spPr>
            <a:xfrm>
              <a:off x="5505480" y="2023920"/>
              <a:ext cx="5968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683320" y="2057400"/>
              <a:ext cx="242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10"/>
          <p:cNvSpPr/>
          <p:nvPr/>
        </p:nvSpPr>
        <p:spPr>
          <a:xfrm>
            <a:off x="6180120" y="213372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трасси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Стрелка вниз 11"/>
          <p:cNvGrpSpPr/>
          <p:nvPr/>
        </p:nvGrpSpPr>
        <p:grpSpPr>
          <a:xfrm>
            <a:off x="1006560" y="3468600"/>
            <a:ext cx="603000" cy="646200"/>
            <a:chOff x="1006560" y="3468600"/>
            <a:chExt cx="603000" cy="646200"/>
          </a:xfrm>
        </p:grpSpPr>
        <p:pic>
          <p:nvPicPr>
            <p:cNvPr id="168" name="Стрелка вниз 11" descr=""/>
            <p:cNvPicPr/>
            <p:nvPr/>
          </p:nvPicPr>
          <p:blipFill>
            <a:blip r:embed="rId2"/>
            <a:stretch/>
          </p:blipFill>
          <p:spPr>
            <a:xfrm>
              <a:off x="1006560" y="3468600"/>
              <a:ext cx="60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187280" y="3505320"/>
              <a:ext cx="243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Прямоугольник с одним вырезанным углом 12"/>
          <p:cNvSpPr/>
          <p:nvPr/>
        </p:nvSpPr>
        <p:spPr>
          <a:xfrm>
            <a:off x="228600" y="4038480"/>
            <a:ext cx="2057400" cy="762120"/>
          </a:xfrm>
          <a:prstGeom prst="pie">
            <a:avLst/>
          </a:prstGeom>
          <a:solidFill>
            <a:srgbClr val="66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IM R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низ 13"/>
          <p:cNvSpPr/>
          <p:nvPr/>
        </p:nvSpPr>
        <p:spPr>
          <a:xfrm>
            <a:off x="7696080" y="3505320"/>
            <a:ext cx="484200" cy="60948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prstDash val="sysDash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одним вырезанным углом 14"/>
          <p:cNvSpPr/>
          <p:nvPr/>
        </p:nvSpPr>
        <p:spPr>
          <a:xfrm>
            <a:off x="6477120" y="4191120"/>
            <a:ext cx="2361960" cy="761760"/>
          </a:xfrm>
          <a:prstGeom prst="pie">
            <a:avLst/>
          </a:prstGeom>
          <a:solidFill>
            <a:srgbClr val="ffffcc"/>
          </a:solidFill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IM / 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5037120" y="3505320"/>
            <a:ext cx="26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дет доступно по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явления спец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75" name="Овал 17"/>
          <p:cNvSpPr/>
          <p:nvPr/>
        </p:nvSpPr>
        <p:spPr>
          <a:xfrm>
            <a:off x="5029200" y="5486400"/>
            <a:ext cx="1523880" cy="60948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Vi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Стрелка вниз 5"/>
          <p:cNvGrpSpPr/>
          <p:nvPr/>
        </p:nvGrpSpPr>
        <p:grpSpPr>
          <a:xfrm>
            <a:off x="3981600" y="1414440"/>
            <a:ext cx="798480" cy="639720"/>
            <a:chOff x="3981600" y="1414440"/>
            <a:chExt cx="798480" cy="639720"/>
          </a:xfrm>
        </p:grpSpPr>
        <p:pic>
          <p:nvPicPr>
            <p:cNvPr id="177" name="Стрелка вниз 5" descr=""/>
            <p:cNvPicPr/>
            <p:nvPr/>
          </p:nvPicPr>
          <p:blipFill>
            <a:blip r:embed="rId4"/>
            <a:stretch/>
          </p:blipFill>
          <p:spPr>
            <a:xfrm>
              <a:off x="3981600" y="1414440"/>
              <a:ext cx="7984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rot="16200000">
              <a:off x="4184640" y="1434600"/>
              <a:ext cx="266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Овал 18"/>
          <p:cNvSpPr/>
          <p:nvPr/>
        </p:nvSpPr>
        <p:spPr>
          <a:xfrm>
            <a:off x="7238880" y="5943600"/>
            <a:ext cx="152424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Top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9"/>
          <p:cNvSpPr/>
          <p:nvPr/>
        </p:nvSpPr>
        <p:spPr>
          <a:xfrm>
            <a:off x="1828800" y="5867280"/>
            <a:ext cx="1523880" cy="6098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DX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20"/>
          <p:cNvSpPr/>
          <p:nvPr/>
        </p:nvSpPr>
        <p:spPr>
          <a:xfrm>
            <a:off x="914400" y="5181480"/>
            <a:ext cx="1523880" cy="609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21"/>
          <p:cNvSpPr/>
          <p:nvPr/>
        </p:nvSpPr>
        <p:spPr>
          <a:xfrm>
            <a:off x="3581280" y="6019920"/>
            <a:ext cx="1524240" cy="6094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войная стрелка вверх/вниз 22"/>
          <p:cNvSpPr/>
          <p:nvPr/>
        </p:nvSpPr>
        <p:spPr>
          <a:xfrm>
            <a:off x="7696080" y="4952880"/>
            <a:ext cx="316080" cy="949320"/>
          </a:xfrm>
          <a:prstGeom prst="upDown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25560">
            <a:solidFill>
              <a:srgbClr val="89a4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войная стрелка вверх/вниз 23"/>
          <p:cNvSpPr/>
          <p:nvPr/>
        </p:nvSpPr>
        <p:spPr>
          <a:xfrm>
            <a:off x="8305920" y="3200400"/>
            <a:ext cx="315720" cy="2971800"/>
          </a:xfrm>
          <a:prstGeom prst="upDownArrow">
            <a:avLst>
              <a:gd name="adj1" fmla="val 50000"/>
              <a:gd name="adj2" fmla="val 500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Прямая со стрелкой 25"/>
          <p:cNvCxnSpPr>
            <a:endCxn id="181" idx="7"/>
          </p:cNvCxnSpPr>
          <p:nvPr/>
        </p:nvCxnSpPr>
        <p:spPr>
          <a:xfrm flipH="1">
            <a:off x="2214360" y="3504960"/>
            <a:ext cx="986400" cy="1765800"/>
          </a:xfrm>
          <a:prstGeom prst="straightConnector1">
            <a:avLst/>
          </a:prstGeom>
          <a:ln w="38160">
            <a:solidFill>
              <a:srgbClr val="7575d1"/>
            </a:solidFill>
            <a:miter/>
            <a:tailEnd len="med" type="arrow" w="med"/>
          </a:ln>
        </p:spPr>
      </p:cxnSp>
      <p:cxnSp>
        <p:nvCxnSpPr>
          <p:cNvPr id="186" name="Прямая со стрелкой 28"/>
          <p:cNvCxnSpPr/>
          <p:nvPr/>
        </p:nvCxnSpPr>
        <p:spPr>
          <a:xfrm>
            <a:off x="4876920" y="3504960"/>
            <a:ext cx="457920" cy="1981800"/>
          </a:xfrm>
          <a:prstGeom prst="straightConnector1">
            <a:avLst/>
          </a:prstGeom>
          <a:ln w="38160">
            <a:solidFill>
              <a:srgbClr val="7575d1"/>
            </a:solidFill>
            <a:miter/>
            <a:tailEnd len="med" type="arrow" w="med"/>
          </a:ln>
        </p:spPr>
      </p:cxnSp>
      <p:cxnSp>
        <p:nvCxnSpPr>
          <p:cNvPr id="187" name="Прямая со стрелкой 31"/>
          <p:cNvCxnSpPr>
            <a:endCxn id="182" idx="0"/>
          </p:cNvCxnSpPr>
          <p:nvPr/>
        </p:nvCxnSpPr>
        <p:spPr>
          <a:xfrm flipH="1">
            <a:off x="4341600" y="3506400"/>
            <a:ext cx="3600" cy="2515320"/>
          </a:xfrm>
          <a:prstGeom prst="straightConnector1">
            <a:avLst/>
          </a:prstGeom>
          <a:ln w="38160">
            <a:solidFill>
              <a:srgbClr val="7575d1"/>
            </a:solidFill>
            <a:miter/>
            <a:tailEnd len="med" type="arrow" w="med"/>
          </a:ln>
        </p:spPr>
      </p:cxnSp>
      <p:cxnSp>
        <p:nvCxnSpPr>
          <p:cNvPr id="188" name="Прямая со стрелкой 34"/>
          <p:cNvCxnSpPr/>
          <p:nvPr/>
        </p:nvCxnSpPr>
        <p:spPr>
          <a:xfrm flipH="1">
            <a:off x="2971080" y="3504960"/>
            <a:ext cx="762840" cy="2362680"/>
          </a:xfrm>
          <a:prstGeom prst="straightConnector1">
            <a:avLst/>
          </a:prstGeom>
          <a:ln w="38160">
            <a:solidFill>
              <a:srgbClr val="7575d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IM / SV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ндар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описания граф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ли уметь строить графическую схему на осно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M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озможно, но не удастся сохранить привычную компоновку схемы – порядок следования РУ, присоединений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M – SGV (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 Vector Graphics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стандарт, позволяющий создавать документы, в котор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M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согласована с графическим описа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проблем научиться импортировать – экспортировать схемы Модус в этот форм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 – в том что еще нет спецификации и практических прим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3"/>
          <p:cNvSpPr/>
          <p:nvPr/>
        </p:nvSpPr>
        <p:spPr>
          <a:xfrm>
            <a:off x="152280" y="152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ce 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3"/>
          <p:cNvSpPr/>
          <p:nvPr/>
        </p:nvSpPr>
        <p:spPr>
          <a:xfrm>
            <a:off x="152280" y="152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струменты для просмотра и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6491160" cy="5000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4126320" y="91440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Sp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зволяет отобраз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 RD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в виде де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21337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графической среды для создания и редактирования схем энергообъектов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M (Dat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отображения данных модели на схем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готовленных в формате Модус через интеграционную шин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в других доклад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28600" y="7621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единой графической среды для представления моделей объектов электроэнергетики в термин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M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EEE 61970/61968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учетом многоцелевого использования информационных, коммутационных и расчетных мод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43720" y="38098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осылки успешного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28600" y="41911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начальная направленность Модус на графическое представление и моделирование объектов электроэнерге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изость иде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й накопленный опыт и объем материала (схем) в Моду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200400" y="55627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чего нового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 не придум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изация уже имеющихся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ение области при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3"/>
          <p:cNvSpPr/>
          <p:nvPr/>
        </p:nvSpPr>
        <p:spPr>
          <a:xfrm>
            <a:off x="152280" y="152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анные для конфигур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857760" cy="299088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4"/>
          <p:cNvSpPr/>
          <p:nvPr/>
        </p:nvSpPr>
        <p:spPr>
          <a:xfrm>
            <a:off x="2666880" y="1752480"/>
            <a:ext cx="9144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5"/>
          <p:cNvSpPr/>
          <p:nvPr/>
        </p:nvSpPr>
        <p:spPr>
          <a:xfrm>
            <a:off x="2666880" y="2209680"/>
            <a:ext cx="9144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380880" y="41148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прим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2006.OW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ный файл описания мо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2Modus.xml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ывает особенности согласования модел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хем Моду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ит в состав поставки Мод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анные для конфигурирования.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айл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8170920" cy="26384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228600" y="9907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метаинформацию о мо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 в форма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F – OW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ормате описания баз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содержать модель 61970, либо 61970+ 6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бо выбранное подмножество (профи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тся конвертированием из файла с описанием модели в форма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5486400" y="99072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опис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ов пе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ов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ов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ей между типами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анные для конфигурирования.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айл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IM2Modus.X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28600" y="990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2Modus.xml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ывает особенности согласования модел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хем Моду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ит в состав поставки Мод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ывает согласование имен комплекса Модус и параметров объе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. Во многих случаях эти имена совпад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28600" y="2311560"/>
            <a:ext cx="85345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152280" y="152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дробность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3"/>
          <p:cNvSpPr/>
          <p:nvPr/>
        </p:nvSpPr>
        <p:spPr>
          <a:xfrm>
            <a:off x="152280" y="152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спользование в качестве серв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ребования к графической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371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символов, соответствующая классифик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е топологии одновременно с формированием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истемы идентификации объек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формирования иерархических и логических связей между элем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то используем из схемы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?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став объект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5715000" y="685800"/>
            <a:ext cx="3000240" cy="41911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1" name="Picture 18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2362320" cy="4953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"/>
          <p:cNvPicPr/>
          <p:nvPr/>
        </p:nvPicPr>
        <p:blipFill>
          <a:blip r:embed="rId3"/>
          <a:stretch/>
        </p:blipFill>
        <p:spPr>
          <a:xfrm>
            <a:off x="4724280" y="4952880"/>
            <a:ext cx="2281320" cy="167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cxnSp>
        <p:nvCxnSpPr>
          <p:cNvPr id="63" name="Прямая со стрелкой 50"/>
          <p:cNvCxnSpPr/>
          <p:nvPr/>
        </p:nvCxnSpPr>
        <p:spPr>
          <a:xfrm flipV="1">
            <a:off x="1752480" y="5485680"/>
            <a:ext cx="3201120" cy="229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pic>
        <p:nvPicPr>
          <p:cNvPr id="64" name="Picture 22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2692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5" name="Прямая со стрелкой 22"/>
          <p:cNvCxnSpPr/>
          <p:nvPr/>
        </p:nvCxnSpPr>
        <p:spPr>
          <a:xfrm>
            <a:off x="2133360" y="3276720"/>
            <a:ext cx="4648680" cy="8388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6" name="TextBox 69"/>
          <p:cNvSpPr/>
          <p:nvPr/>
        </p:nvSpPr>
        <p:spPr>
          <a:xfrm>
            <a:off x="3600" y="914400"/>
            <a:ext cx="50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объекта на схеме задает класс в мо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71"/>
          <p:cNvCxnSpPr/>
          <p:nvPr/>
        </p:nvCxnSpPr>
        <p:spPr>
          <a:xfrm>
            <a:off x="3809880" y="4190760"/>
            <a:ext cx="1067760" cy="1067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pic>
        <p:nvPicPr>
          <p:cNvPr id="68" name="Picture 24" descr=""/>
          <p:cNvPicPr/>
          <p:nvPr/>
        </p:nvPicPr>
        <p:blipFill>
          <a:blip r:embed="rId5"/>
          <a:stretch/>
        </p:blipFill>
        <p:spPr>
          <a:xfrm>
            <a:off x="2666880" y="1828800"/>
            <a:ext cx="2853000" cy="1371600"/>
          </a:xfrm>
          <a:prstGeom prst="rect">
            <a:avLst/>
          </a:prstGeom>
          <a:ln w="0">
            <a:noFill/>
          </a:ln>
        </p:spPr>
      </p:pic>
      <p:cxnSp>
        <p:nvCxnSpPr>
          <p:cNvPr id="69" name="Прямая со стрелкой 74"/>
          <p:cNvCxnSpPr/>
          <p:nvPr/>
        </p:nvCxnSpPr>
        <p:spPr>
          <a:xfrm>
            <a:off x="4495320" y="2285640"/>
            <a:ext cx="2134440" cy="1677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0" name="Прямая со стрелкой 78"/>
          <p:cNvCxnSpPr/>
          <p:nvPr/>
        </p:nvCxnSpPr>
        <p:spPr>
          <a:xfrm flipV="1">
            <a:off x="4800600" y="1828800"/>
            <a:ext cx="915120" cy="766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1" name="Овал 81"/>
          <p:cNvSpPr/>
          <p:nvPr/>
        </p:nvSpPr>
        <p:spPr>
          <a:xfrm>
            <a:off x="5715000" y="1600200"/>
            <a:ext cx="129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83"/>
          <p:cNvSpPr/>
          <p:nvPr/>
        </p:nvSpPr>
        <p:spPr>
          <a:xfrm>
            <a:off x="2514600" y="1752480"/>
            <a:ext cx="24382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85"/>
          <p:cNvSpPr/>
          <p:nvPr/>
        </p:nvSpPr>
        <p:spPr>
          <a:xfrm>
            <a:off x="4648320" y="5105520"/>
            <a:ext cx="220968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86"/>
          <p:cNvSpPr/>
          <p:nvPr/>
        </p:nvSpPr>
        <p:spPr>
          <a:xfrm>
            <a:off x="1101600" y="3929040"/>
            <a:ext cx="29718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701800" cy="37339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8199360" cy="1516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Прямоугольник 5"/>
          <p:cNvSpPr/>
          <p:nvPr/>
        </p:nvSpPr>
        <p:spPr>
          <a:xfrm>
            <a:off x="228600" y="228600"/>
            <a:ext cx="6095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 используем из схем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аметры объект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038480" y="1981080"/>
            <a:ext cx="1524240" cy="2414880"/>
          </a:xfrm>
          <a:prstGeom prst="rect">
            <a:avLst/>
          </a:prstGeom>
          <a:ln w="0">
            <a:noFill/>
          </a:ln>
        </p:spPr>
      </p:pic>
      <p:cxnSp>
        <p:nvCxnSpPr>
          <p:cNvPr id="79" name="Прямая со стрелкой 7"/>
          <p:cNvCxnSpPr/>
          <p:nvPr/>
        </p:nvCxnSpPr>
        <p:spPr>
          <a:xfrm>
            <a:off x="4800240" y="3276720"/>
            <a:ext cx="1524600" cy="8388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0" name="Прямая со стрелкой 9"/>
          <p:cNvCxnSpPr/>
          <p:nvPr/>
        </p:nvCxnSpPr>
        <p:spPr>
          <a:xfrm flipH="1">
            <a:off x="4876200" y="4266000"/>
            <a:ext cx="1448280" cy="83916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1" name="TextBox 12"/>
          <p:cNvSpPr/>
          <p:nvPr/>
        </p:nvSpPr>
        <p:spPr>
          <a:xfrm>
            <a:off x="235440" y="449568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соответствия параметров в стадии на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0" y="1143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изуальном элементе можно задать марку оборудования и его парамет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0" y="182880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есть каждый элемент на схеме содержит запись 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азываем это «технологической модель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информация и записывается при экспорте в фай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 R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 используем из схемы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п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2085840" cy="330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2"/>
          <a:stretch/>
        </p:blipFill>
        <p:spPr>
          <a:xfrm>
            <a:off x="2577960" y="5791320"/>
            <a:ext cx="3162600" cy="8380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cxnSp>
        <p:nvCxnSpPr>
          <p:cNvPr id="87" name="Прямая со стрелкой 7"/>
          <p:cNvCxnSpPr/>
          <p:nvPr/>
        </p:nvCxnSpPr>
        <p:spPr>
          <a:xfrm>
            <a:off x="1294920" y="4571640"/>
            <a:ext cx="1435680" cy="11437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88" name="Прямая со стрелкой 8"/>
          <p:cNvCxnSpPr/>
          <p:nvPr/>
        </p:nvCxnSpPr>
        <p:spPr>
          <a:xfrm>
            <a:off x="1295280" y="3962520"/>
            <a:ext cx="2121480" cy="17532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pic>
        <p:nvPicPr>
          <p:cNvPr id="89" name="Picture 14" descr=""/>
          <p:cNvPicPr/>
          <p:nvPr/>
        </p:nvPicPr>
        <p:blipFill>
          <a:blip r:embed="rId3"/>
          <a:stretch/>
        </p:blipFill>
        <p:spPr>
          <a:xfrm>
            <a:off x="5562720" y="1881360"/>
            <a:ext cx="3200400" cy="3833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cxnSp>
        <p:nvCxnSpPr>
          <p:cNvPr id="90" name="Прямая со стрелкой 12"/>
          <p:cNvCxnSpPr/>
          <p:nvPr/>
        </p:nvCxnSpPr>
        <p:spPr>
          <a:xfrm flipV="1">
            <a:off x="3568680" y="4571280"/>
            <a:ext cx="2286720" cy="1143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91" name="Прямая со стрелкой 16"/>
          <p:cNvCxnSpPr/>
          <p:nvPr/>
        </p:nvCxnSpPr>
        <p:spPr>
          <a:xfrm flipV="1">
            <a:off x="3034080" y="2514240"/>
            <a:ext cx="2667960" cy="32011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2" name="TextBox 22"/>
          <p:cNvSpPr/>
          <p:nvPr/>
        </p:nvSpPr>
        <p:spPr>
          <a:xfrm>
            <a:off x="228600" y="13716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пология строится автоматически  в момент подготовки схемы в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нектор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ел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vity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152280" y="152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нтейнеры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ерарх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429000" cy="28954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95" name="Picture 12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1143000" cy="27511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5948280" y="1752480"/>
            <a:ext cx="2890800" cy="40388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cxnSp>
        <p:nvCxnSpPr>
          <p:cNvPr id="97" name="Прямая со стрелкой 6"/>
          <p:cNvCxnSpPr/>
          <p:nvPr/>
        </p:nvCxnSpPr>
        <p:spPr>
          <a:xfrm flipV="1">
            <a:off x="2971800" y="2666520"/>
            <a:ext cx="3201120" cy="1533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8" name="Прямая со стрелкой 7"/>
          <p:cNvCxnSpPr/>
          <p:nvPr/>
        </p:nvCxnSpPr>
        <p:spPr>
          <a:xfrm flipV="1">
            <a:off x="4952880" y="3733200"/>
            <a:ext cx="1448640" cy="6102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99" name="TextBox 16"/>
          <p:cNvSpPr/>
          <p:nvPr/>
        </p:nvSpPr>
        <p:spPr>
          <a:xfrm>
            <a:off x="228600" y="762120"/>
            <a:ext cx="8915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топологического и семантического анализа схе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матическ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ся группы элеме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е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ляются с объект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ледниками клас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Containe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дстан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Leve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редустрой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y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чей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4"/>
          <a:stretch/>
        </p:blipFill>
        <p:spPr>
          <a:xfrm>
            <a:off x="228600" y="5486400"/>
            <a:ext cx="6611760" cy="1066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cxnSp>
        <p:nvCxnSpPr>
          <p:cNvPr id="101" name="Прямая со стрелкой 26"/>
          <p:cNvCxnSpPr/>
          <p:nvPr/>
        </p:nvCxnSpPr>
        <p:spPr>
          <a:xfrm flipH="1">
            <a:off x="4799880" y="4343400"/>
            <a:ext cx="153000" cy="1905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онтейнеры – подстан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3720" y="1211400"/>
            <a:ext cx="6956280" cy="539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048040" cy="4257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05" name="TextBox 5"/>
          <p:cNvSpPr/>
          <p:nvPr/>
        </p:nvSpPr>
        <p:spPr>
          <a:xfrm>
            <a:off x="2520" y="838080"/>
            <a:ext cx="92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руппировки по  подстанциям используется специальный элемент «контейн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собенности электронных сх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работанная библиотека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ы от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ере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ерархическая 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пологическая свя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ованные свойства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86000" y="56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80880" y="2971800"/>
            <a:ext cx="78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хема – это не картинк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373392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ое изоб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но – ориентированная база данных по элементам сх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ие топологической с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 для вывода результатов измерений и расч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работанная технология идентификации оборудования и формирования реестра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место для представления разнородных данных (платформа интег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 Амелин</dc:creator>
  <dc:description/>
  <dc:language>en-US</dc:language>
  <cp:lastModifiedBy>swame</cp:lastModifiedBy>
  <dcterms:modified xsi:type="dcterms:W3CDTF">2008-10-05T18:56:29Z</dcterms:modified>
  <cp:revision>4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