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942-381F-4557-904A-6468DC40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EF5-DDEA-499A-AD32-3423DCA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4A4-A36B-4888-8C3A-FDE1C5AA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B2A-EAC9-4E63-A7F9-013D746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30C-CD9F-4E20-A0F2-07D0E1B1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ADA-D23A-4716-B245-A382894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7EF4-C4CC-4096-B8AB-FB28F5D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E58-DA52-4E7C-8E0A-E314D98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8D5-8C32-40B1-BD69-701A774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429-2E7A-4A86-8BBB-96854231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0488-15E5-4474-A6A0-D2F1F29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A8B-7D4D-48D6-950D-6EB3FBC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04B1-CEC3-4116-80F5-9C04A56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505E-A19D-4BC3-9A71-98029FAA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6FB-FCF4-4632-9A8D-A7972339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BE5-9C7A-4FE7-8EBF-8D8F627F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B863-1497-452B-9F39-093CE579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6A8-4B68-4766-AD05-D475F65B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E8D-D3F2-4A8C-9F47-C295C8D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DAF-0BE3-4DFC-9406-1BB3C8A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3CA-0D21-43F1-9C35-64F22351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FC2-38CF-4905-9D63-A52E37A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201-DE01-4939-93DE-E5A1625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C6-056A-44E9-9803-998A346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D89B-77B4-449A-B991-32FDC9E144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5D5A-D4CF-4AC0-9AF5-6745C7BD47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3357360"/>
            <a:ext cx="7054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граммное решение для ведения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немосхемы с использованием экрана коллективного пользовани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4437000"/>
            <a:ext cx="6046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ания Мод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swman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Модуль приема сигнал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олнительная обработка ТИ – модуль прием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PC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гналов осуществляет функции дорасч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выглядит схема на ЭКП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5473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160" y="723960"/>
            <a:ext cx="906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па, режи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220760"/>
            <a:ext cx="8964720" cy="53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дель, недостоверные сигнал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учное ведение мнемосх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чное ведение нетелемеханизирован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 присоединений с одной системы шин на друг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 на обходную С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ятие с телемеханического контр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метки о повреждениях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мобильными элемен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6240" y="867600"/>
            <a:ext cx="7862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становка «мобильных» элемент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42880"/>
            <a:ext cx="76932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к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ные зазем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т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метки проведения ремонтных раб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32520" y="55440"/>
            <a:ext cx="5292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становка плакат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стемный журн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495520"/>
            <a:ext cx="9144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знач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мена основного щита МосРДУ на время реконстр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качестве основного диспетчерского щита ДС Мосэнер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тавилась задача замены комплекса АСДУ, ведения режимных параме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03800" y="244440"/>
            <a:ext cx="5149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еративный журн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375000" y="27000"/>
            <a:ext cx="5428440" cy="5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дробные сх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40160" y="316440"/>
            <a:ext cx="8099640" cy="10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активная работа с ЭК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омощью специального ПО возможно использование мыши и клавиатуры установленного на РМ диспетчера, для управления компьютера ЭК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ключение между заранее настроенными конфигу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3800" y="315720"/>
            <a:ext cx="8564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опустимые на ЭКП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ерации пользовательского интерфейс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КП необходимо полностью исключить операции, требующие точных операций мышью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бота с меню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нопками инструментальных пан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ередвижение окон, изменение размеров окон через раздвигание рам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ыбор элементов на сх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бота со стандартным скролле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пустимые опер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скивание мышью изображения – с прижатой кнопкой (в случае применения достаточно быстродействующей видеосистем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роллирование с помощью колесика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ключение режимов отображения с помощью клавиатурных комбин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шения для дистанционного управления окнами на ЭКП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паратные решения - с помощью специализированных устрой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 Scree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рафические таблет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ные решения – удаленное управление 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MContro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819000"/>
            <a:ext cx="89647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токи управления ЭКП с рабочего мес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правление состоянием схемы (ведение) – через БД состоян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QL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телемеханизированного оборуд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через протокол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й телемеханизирован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правление окнами на экране - с помощью програм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MControl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чере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й диспетчер может независимо управлять любым из потоков в любой момент вре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если у него есть соответствующие пра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случае отказа ЭК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контроллера ЭКП. Один в рабочем режиме, другой – в горячем резерв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 же схема доступна на всех рабочих местах диспетчеров, однако в худшей обзо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ем представляемой информаци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ообъект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дстанции, линии 110-220-500 кВ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800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/ 13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Электростанции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5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ставе схем энергообъект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истемы шин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Генераторы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Трансформаторы 110-500 кВ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ыключатели (с текущей фиксацией) 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2700 присоедин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Разъединители (выборочно)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инхронные компенсаторы, реакторы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ce"/>
                </a:solidFill>
                <a:latin typeface="Tahoma"/>
              </a:rPr>
              <a:t>Отличительные особенности 4 версии программного комплек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ая программная архитектура основанная 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ологиях (механизм модулей расшир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еличение производительности графическая системы и объектного яд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надежности системы (корректная обработка исключительных ситуаций, исключение утечек памяти) обеспечение режима рабо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лучшенный пользовательский интерфей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готовка да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инструменты для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фический редактор Мод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C L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е импорт в БД электронного журн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дентификация обору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8360" y="1125360"/>
          <a:ext cx="84247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4247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хема – это база данных оборудования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требуется отдельной БД НС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бо может использоваться существующая БД НС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В результате рабо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ботаны подходы ведения схемы применительно к диспетчерской службе уровня Р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а, опробована в условиях промышленной эксплуатации расширяемая программная платформа для ведения мнемосхемы с использованием ЭКП, либо без ЭК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аммная платформа представляет собой автономное решение, в то же время позволяющее истегрироваться с уже имеющимися ОИК в качестве источников телеинформации, а также с имеющимися БД НС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ная платформа представляет собой автономное решение, в то же время позволяющее истегрироваться с уже имеющимися ОИК в качестве источников телеинформации, а также с имеющимися БД НС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етей другого типа (кабельные , городские) – дополнительтная проработка графических представлений и доработка мод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Перспективы разви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ение функций Электронного журн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ключение функций анализа ситу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дополнительных представлений сх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Дополнительное представл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ем выводимой информ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фигурация ЭК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x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идеокуба 409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230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икс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н подход, позволяющий уместить на экране схему в требуемой конфигу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абочих места диспетч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81680" y="298800"/>
            <a:ext cx="81806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делирование присоедин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1263600"/>
            <a:ext cx="7056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нятие представл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ин «композитный» графический элемент моделирует целое присоединение – около 5-10 коммутационных ап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можность построения достоверной электрической коммутационной модели сети на основе одного схемного предста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379680" y="31680"/>
            <a:ext cx="5408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д сх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д схемы можно настраива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268280"/>
          <a:ext cx="8569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569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Получение данных телемет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го 2000 ТИ, 4000 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рно 60% выключателей телемеханизированы, состояние остальных ведется вручную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е поступают с сервера телемехани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Т-Соф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протокол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P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6:54:26Z</dcterms:created>
  <dc:creator>Сергей Амелин</dc:creator>
  <dc:description/>
  <dc:language>en-US</dc:language>
  <cp:lastModifiedBy>SV</cp:lastModifiedBy>
  <dcterms:modified xsi:type="dcterms:W3CDTF">2006-07-07T08:07:38Z</dcterms:modified>
  <cp:revision>97</cp:revision>
  <dc:subject/>
  <dc:title>Программное решение для ведения мнемосхемы с использованием экрана коллективного пользования </dc:title>
</cp:coreProperties>
</file>