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11C-187B-4FD8-A2DC-830EE9AF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D70-889A-4B4D-9DB6-5AACE750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5BE-AD4E-4CD5-8B9B-EFEA6456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E124-F665-4CD7-B135-E8296CF8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DD6D-A144-44FC-A750-0B6E8FE5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48E8-B458-4491-AD89-BB306FF9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9E96-26EF-4BE2-8124-AF7A7955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9CC4-07DA-4A75-92E3-484BA15C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B4BC-8916-47B7-BA45-A5F315A4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02BE-8C6D-4505-B432-18A636DA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6CE7-122F-430F-9E53-5C70378D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0BB6-8C7C-4DCA-893C-28ED22D2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C81E-304F-4CF8-A441-7EC6D27C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012F-48A7-4560-9B5F-DD740F93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C2B1-95F1-4669-92B7-99D44FA6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7F76-6591-4FAF-B4C8-6AE940EA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2579-3113-4DC9-B8DB-E545B0E5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E91-EE3F-4DF3-99F6-5B2D574E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3F2-99ED-42C9-B2D8-F86CF7BA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581-63A4-4BC2-AA73-B45A0895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2FC-6472-4EB1-BF07-E34F075C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C55C-023B-4D1A-A921-D2E9D7BD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C85-C5A7-498A-B3E7-B401940E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9D3-55C4-463B-B266-11EEBCAC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1E45-CC4C-440F-9E70-4F4159911B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37A3-C1E5-4EC7-897B-092A40B9E8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ерсия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S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1992-199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ценарный тренаж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тотип пользовательского интерфейса и основных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цепция графической сис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крытие функциональности «железного» тренаж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ость конструирования собственных трениров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ерсия 1-2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1995-1997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ерсия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ценарный тренаж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афический редактор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кеты по основным сетям и распредсетя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отка тренировок по конкретным энергоообъект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ерсия 3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1998-200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пология сх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мутационная мод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бота без сценар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витие графической системы. Моделирование щитов управл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тевая версия (дистанционный монитор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ерсия 3.10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200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дель релейной защиты и автоматик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делирование отказов и повреждени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 блокирово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ключение модуля расчета режим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ерсия 3.20 – 3.50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2002-200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ершенствование коммутационных моделей, моделей РЗи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ершенствование средств подготов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бота по макетам реальных энергообъектов. Увеличение производительности работы алгоритм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2602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ерсия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.0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003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155736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ершенствование коммутационных моделей, моделей РЗи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ершенствование средств подготовк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тимизация для работы на экранах коллективного пользова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бота по макетам реальных энергообъектов. Увеличение производительности работы алгоритм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2602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ерсии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.10-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.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20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00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4-2005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48428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вышение устойчивости макетов к изменения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точнение набора правил и расширение функциональности модели защи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держка «композитных» элемент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пуск сетевого тренажера в коробочном вариант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2602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ерсия 5.0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00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6-2007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162864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делирование работы с основным оборудованием с использованием механизма сце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ование «технологической» модели основного оборудован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льнейшая детализация модели релейных защи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грация с режимным тренажером Феник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 Amelin</cp:lastModifiedBy>
  <dcterms:modified xsi:type="dcterms:W3CDTF">2006-10-17T04:03:31Z</dcterms:modified>
  <cp:revision>46</cp:revision>
  <dc:subject/>
  <dc:title>PowerPoint Presentation</dc:title>
</cp:coreProperties>
</file>