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A49-D2B9-44B6-9D66-6C401B95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158-B0EE-43B5-8BE4-9673A7D3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174-784E-49D9-9B35-1C209A9E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F78-B927-43F6-8F14-650E3478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D662-AACC-4692-9BCD-C75F7C4D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4398-0A1C-4BBC-B1BE-B9ED936D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8E58-5B93-4115-8C69-3B3E207B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06BB-F11A-45B0-9E76-4A9D6545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83FC-A2F6-478B-88B9-864A4EB5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2905-9845-4021-8E77-9F740062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4A79-E63B-4106-A05F-03F8649A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68C-5238-4098-B5A9-F89EF7C2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7C92-890C-4846-BD29-52F951B6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5B7E-688B-4498-BA65-3A85B49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F820-7072-4B3C-AFCD-B73AB57F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108A-33E4-4D46-85DB-D7678A99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461B-1760-43CE-B235-74803BB1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05C-2196-4675-8343-245316C0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F30-E5F2-4CFD-B1A4-04109D35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E58-3E91-4B94-93A7-B511AB38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B8E-3D57-4A02-BBFE-625F82E8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DC7-F943-4B0F-8E51-D178BC87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1DE-2257-43EB-AC09-87903BD9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0DA-E90C-46AF-84E8-59564C36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3820-8588-4D58-B987-66264F8B18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BED1-A570-4439-B259-9E39908ACB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700280"/>
            <a:ext cx="56214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«Сцены»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еханизм сце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ширяет интерфейс взаимодействия пользователя с схем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воляет имитировать действия с реальным оборудова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ализован в качестве модуля – может работать с разными программами комплек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сходные данные для создания сце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тографии обору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исунки оборудования в векторном формат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исание механизма работы обору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исание порядка работы персонала с данным оборудова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цесс создания сц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дание файла описания состава сце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готовка графического предста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граммирование логики работы сцены в сцена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несение сцены в библиотеку сц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стирование и отлад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Библиотека сце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4171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выбора сцены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 схемы на осн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й одного или несколь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ованных парамет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 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а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сц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48320" y="1765440"/>
            <a:ext cx="4038480" cy="4317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айл описания состава сце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7920000" cy="252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Графическое представление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457440" cy="2482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95640" y="1125360"/>
            <a:ext cx="3600720" cy="2479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859280" y="3716280"/>
            <a:ext cx="3382920" cy="2635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116000" y="3789360"/>
            <a:ext cx="3166920" cy="2394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6881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Логика работы сцены и её взаимодействия со схемой описывается в сценарии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360" y="3141720"/>
            <a:ext cx="160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СХЕМА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2720" y="4797360"/>
            <a:ext cx="1619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СЦЕНА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4720" y="393372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20720" y="3860640"/>
            <a:ext cx="360360" cy="649440"/>
          </a:xfrm>
          <a:prstGeom prst="upArrow">
            <a:avLst>
              <a:gd name="adj1" fmla="val 50000"/>
              <a:gd name="adj2" fmla="val 4505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700360" y="2197080"/>
            <a:ext cx="6443640" cy="4660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0:22:41Z</dcterms:created>
  <dc:creator>1</dc:creator>
  <dc:description/>
  <dc:language>en-US</dc:language>
  <cp:lastModifiedBy>Sergey Amelin</cp:lastModifiedBy>
  <dcterms:modified xsi:type="dcterms:W3CDTF">2007-06-08T12:14:20Z</dcterms:modified>
  <cp:revision>40</cp:revision>
  <dc:subject/>
  <dc:title>Механизм «сцен»</dc:title>
</cp:coreProperties>
</file>