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235-5EFD-4651-80D0-BB5933B0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3B5-9AD9-4A78-B5B5-8DBB2E1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4AF-083B-4A38-880B-1C7D7EE1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3A8-59D4-47BA-9CBA-53362C3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2C8A-11EE-4B37-AFDD-ABC21471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D6A5-2574-48B8-979C-DEF1C0FA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F2C-88CD-4914-9DCA-DF34984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5BF-09F5-4626-895A-203C6FA9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482B-A158-4E17-B9AD-4216704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E426-CA60-46DC-B0DF-37F927B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8377-F567-4869-B50B-251127A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8E5-D63E-4280-83A7-3542CCC1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86BA-028A-410C-B6FE-51784E3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02ED-DCC9-4D30-A045-F762E42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6EF2-EBE9-467F-93EF-E8F975B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534-0947-42F6-81A2-3B4B1FB4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C2F1-82B7-4B8E-AFD9-6C2E3B94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75A-01F7-45D3-A3DA-05AA16F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AC6-9BF4-41F9-ACF2-D1DFC87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263-0D32-472C-ACB6-9515E5C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175-B45F-4332-9581-E008189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663-7519-4364-BF21-57AC4E8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F0B-4C30-4D36-8D77-C81D384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1A2-4FB9-4948-B53B-60C0804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A887-7804-4668-9445-12246BD91F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C4B-B313-4463-B7DB-F6BD1D3A5B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700280"/>
            <a:ext cx="5621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«Сцены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ханизм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ширяет интерфейс взаимодействия пользователя с схе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воляет имитировать действия с реальным оборудов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лизован в качестве модуля – может работать с разными программами компле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сходные данные для создания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тографии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исунки оборудования в векторном форм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исание механизма работы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исание порядка работы персонала с данным оборудов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цесс создания сц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файла описания состава сц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готовка графического предст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граммирование логики работы сцены в сцена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несение сцены в библиотеку сц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стирование и отлад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Библиотека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4171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выбора сцены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 схемы на осн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й одного или несколь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ованных парам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а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сц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765440"/>
            <a:ext cx="4038480" cy="4317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айл описания состава сц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20000" cy="252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Графическое представление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457440" cy="248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3600720" cy="2479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3382920" cy="263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3166920" cy="239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6881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огика работы сцены и её взаимодействия со схемой описывается в сценарии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360" y="31417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ХЕМА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2720" y="4797360"/>
            <a:ext cx="16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ЦЕНА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4720" y="393372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20720" y="3860640"/>
            <a:ext cx="360360" cy="649440"/>
          </a:xfrm>
          <a:prstGeom prst="upArrow">
            <a:avLst>
              <a:gd name="adj1" fmla="val 50000"/>
              <a:gd name="adj2" fmla="val 4505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00360" y="2197080"/>
            <a:ext cx="6443640" cy="466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0:22:41Z</dcterms:created>
  <dc:creator>1</dc:creator>
  <dc:description/>
  <dc:language>en-US</dc:language>
  <cp:lastModifiedBy>Sergey Amelin</cp:lastModifiedBy>
  <dcterms:modified xsi:type="dcterms:W3CDTF">2007-06-08T12:14:20Z</dcterms:modified>
  <cp:revision>40</cp:revision>
  <dc:subject/>
  <dc:title>Механизм «сцен»</dc:title>
</cp:coreProperties>
</file>