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4EB-DCDA-4E2B-B7F2-CE8E23D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EBE-3022-4561-916F-A5494AF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A4D-D833-45CB-81EB-7E97E246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CCC-B1AD-44EA-8FD6-A7C77A88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E36C-F3C5-469E-BE00-A4AB146E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38DA-866A-4FDB-9A2B-519D6BF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3BF-64C3-4048-8EEC-97E3D3F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E59-B089-48E8-9FA9-030BA205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770D-0EBB-4DE3-97A0-E9BBCEBE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EBD2-98E2-46CF-938E-76A64833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AA1E-4173-4036-B8D5-8F4E26F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2DB-59A2-4498-94AB-406C1A3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F4EE-C4D2-4442-8CA6-992AC63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13A7-9620-4F2F-803F-26C6F32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A52B-B17D-4523-A641-1508452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3BB5-EBB1-44C3-81B4-625B1786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F188-58E8-4F51-8557-C865292D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8D2-B088-4C0C-8FFC-1991978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799-5314-45D6-9C67-84ACF78A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985-D2E1-463D-9E54-739BDC3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95A-3834-47AF-B459-D61F5D79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91A-E1C0-411F-A18E-D9736DCB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C6A-40A8-4595-9D6E-5E2D95F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21F-667B-4924-8F08-EC8DCF3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290-D8D4-405D-9CAB-9675FB0A58E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8B25-61A0-45FA-81DD-129F209945C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08360" y="1844640"/>
            <a:ext cx="518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Программ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обеспечение для предприятий электроэнерг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5300640"/>
            <a:ext cx="251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e6b"/>
                </a:solidFill>
                <a:latin typeface="Garamond"/>
              </a:rPr>
              <a:t>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e6b"/>
                </a:solidFill>
                <a:latin typeface="Garamond"/>
              </a:rPr>
              <a:t>Компания Мод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b"/>
                </a:solidFill>
                <a:uFillTx/>
                <a:latin typeface="Garamond"/>
              </a:rPr>
              <a:t>www.swman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рганизация тренажёрного класс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дивидуальные трениров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ждый пользователь работает со своим экземпляром как тренажёра Феникс так и тренажёра МОД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тевые трениров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сколько пользователей работают с одним общим экземпляром тренажёра Феникс и с индивидуальными экземплярами тренажёра МОДУС, при этом пользователи осуществляют действия на разных подстанция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ндивидуальная трениров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1360" y="155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2133720"/>
            <a:ext cx="237672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2133720"/>
            <a:ext cx="2592360" cy="32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3213000"/>
            <a:ext cx="165744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3645000"/>
            <a:ext cx="2736720" cy="1152360"/>
          </a:xfrm>
          <a:prstGeom prst="rightArrow">
            <a:avLst>
              <a:gd name="adj1" fmla="val 50000"/>
              <a:gd name="adj2" fmla="val 593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2565360"/>
            <a:ext cx="2736720" cy="1150920"/>
          </a:xfrm>
          <a:prstGeom prst="leftArrow">
            <a:avLst>
              <a:gd name="adj1" fmla="val 50000"/>
              <a:gd name="adj2" fmla="val 59446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86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зультаты расчёта реж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етевая трениров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557360"/>
            <a:ext cx="295092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557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133720"/>
            <a:ext cx="2376720" cy="395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2133720"/>
            <a:ext cx="3024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7640" y="2708280"/>
            <a:ext cx="1800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6200" y="2133720"/>
            <a:ext cx="2736720" cy="647640"/>
          </a:xfrm>
          <a:prstGeom prst="leftArrow">
            <a:avLst>
              <a:gd name="adj1" fmla="val 50000"/>
              <a:gd name="adj2" fmla="val 10564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8720" y="1628640"/>
            <a:ext cx="3384360" cy="216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162864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3933720"/>
            <a:ext cx="3384360" cy="251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39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5083200"/>
            <a:ext cx="18018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6200" y="2781360"/>
            <a:ext cx="2736720" cy="647640"/>
          </a:xfrm>
          <a:prstGeom prst="rightArrow">
            <a:avLst>
              <a:gd name="adj1" fmla="val 50000"/>
              <a:gd name="adj2" fmla="val 1056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86200" y="4510080"/>
            <a:ext cx="2736720" cy="647640"/>
          </a:xfrm>
          <a:prstGeom prst="leftArrow">
            <a:avLst>
              <a:gd name="adj1" fmla="val 50000"/>
              <a:gd name="adj2" fmla="val 10564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86200" y="5157720"/>
            <a:ext cx="2736720" cy="647640"/>
          </a:xfrm>
          <a:prstGeom prst="rightArrow">
            <a:avLst>
              <a:gd name="adj1" fmla="val 50000"/>
              <a:gd name="adj2" fmla="val 1056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Требования к ПО расчета режима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зможность перефиксировать присоединение (переключить ветвь на другой узе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ректно работать со схемами распредустройств с числом выключателей на присоединение, не равным одно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полнять одностороннее отключение лин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считывать выделившиеся участки схемы с собственной генерацией (даже без учета частоты). Расчет равновесных частот при разделении систе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зможность расчета схем как минимум на 2-3 тыс. узлов, в перспективе на 10-12 тыс. уз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Требования к ПО расчета режима</a:t>
            </a:r>
            <a:br>
              <a:rPr sz="40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(</a:t>
            </a: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Архитектура программного интерфейс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расчета УР должно иметь возможность загрузки требуемых режимов (из файла, либо блоком данных через программный интерфейс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должно быть оформлено либо в виде dll, либо (предпочтительно) в ви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сервера автоматиза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лательно иметь возможность иметь одновременно загруженными несколько независимо работающих расчетных сх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граммный интерфейс должен обеспечивать возможность внесения различного типа возмущений (перефиксация присоединений, изменение величин генерации и потребления, перевод РПН трансформаторов и т.п.). А также желательно обеспечить возврат к любому из ранее просчитанных промежуточных состояний (шагов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анные требования не являются строго обязательными, однако их полное выполнение обеспечивает возможность создание высококачественного коммутационно-режимного тренаже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ринципы построения интегрированного  коммутационно – режимного тренажера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Требования к тренажеру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пользовать при проведении тренировки результаты расчета установившегося реж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граммный комплекс для расчета режима использовать тот, что уже внедрен и используется на предприятии (подготовлены и отлажены соответствующие расчетные схем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кущие режимные параметры должны отображаться на схеме, а при действиях пользователя режим должен пересчитывался при необходимости (например, при коммутациях в схеме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спользование расчетной схемы Мосэнерго на 1000 узл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первые такой подход был реализован в 2001 г. при подготовке соревнований диспетчеров Мосэнерго. Расчет режима требовался для задачи по выводу в ремонт линии 500кВ (тренировка по переключениям)  и в аварийной задаче (выделение ТЭЦ на несинхронную работу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е разработчиков была предоставлено ПО расчета режима, реализованное в виде модуля DLL, и подготовленная расчетная схема Мосэнерго объемом около 1000 узлов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рограммный интерфейс DLL позволяет вносить возмущения  в текущую расчетную схему. Возмущения выражаются в отключении и подключении ветвей расчетной схемы, изменении нагрузок и генерации в ее узлах. 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ыковка с ПО расчета режима заключалась 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е инструмента для привязки элементов схемы к идентификационным данным расчетной схемы (узлам, ветвям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е механизма обмена данными режима между коммутационной моделью тренажера и входными и выходными наборами данных ПО РМС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898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Сопряжение тренажера МОДУС по оперативным переключениям с режимной частью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ФЕНИКС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руктура взаимодейст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773360"/>
            <a:ext cx="2950920" cy="3528720"/>
          </a:xfrm>
          <a:prstGeom prst="flowChartMultidocumen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1916280"/>
            <a:ext cx="2663640" cy="280800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2808000"/>
              <a:gd name="textAreaBottom" fmla="*/ 2678040 h 2808000"/>
            </a:gdLst>
            <a:ahLst/>
            <a:rect l="textAreaLeft" t="textAreaTop" r="textAreaRight" b="textAreaBottom"/>
            <a:pathLst>
              <a:path w="21600" h="22770">
                <a:moveTo>
                  <a:pt x="3600" y="0"/>
                </a:moveTo>
                <a:arcTo wR="3600" hR="3600" stAng="16200000" swAng="-5400000"/>
                <a:lnTo>
                  <a:pt x="0" y="19170"/>
                </a:lnTo>
                <a:arcTo wR="3600" hR="3600" stAng="10800000" swAng="-5400000"/>
                <a:lnTo>
                  <a:pt x="18000" y="22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2421000"/>
            <a:ext cx="2449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635280" y="3789360"/>
            <a:ext cx="2449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15640" y="184464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стоя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3068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зультат расчета реж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сходные данн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ленные проект ЭС в тренажёре Феник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отовый комплект схем в формате Модус с выверенной электрической модел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авильно проставленные диспетчерские наименования сигналов ТС и 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00280"/>
            <a:ext cx="3168720" cy="2665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3500280"/>
            <a:ext cx="3240000" cy="2665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Диспетчерские 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Диспетчерские 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5516640"/>
            <a:ext cx="1871640" cy="0"/>
          </a:xfrm>
          <a:prstGeom prst="line">
            <a:avLst/>
          </a:prstGeom>
          <a:ln w="54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9720"/>
            <a:ext cx="1008000" cy="1008000"/>
          </a:xfrm>
          <a:prstGeom prst="plus">
            <a:avLst>
              <a:gd name="adj" fmla="val 4295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Архитектура</a:t>
            </a:r>
            <a:br>
              <a:rPr sz="4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взаимодействия по ЛВС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1484280"/>
            <a:ext cx="3600360" cy="396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8360" y="14842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484280"/>
            <a:ext cx="3527280" cy="41054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240" y="14842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133720"/>
            <a:ext cx="309564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енажёр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789360"/>
            <a:ext cx="3095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нтеграто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708280"/>
            <a:ext cx="208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4437000"/>
            <a:ext cx="208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060640"/>
            <a:ext cx="302400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4292640"/>
            <a:ext cx="302580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еникс-Интерф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6165720"/>
            <a:ext cx="8496360" cy="557280"/>
          </a:xfrm>
          <a:prstGeom prst="leftRightArrow">
            <a:avLst>
              <a:gd name="adj1" fmla="val 65241"/>
              <a:gd name="adj2" fmla="val 51879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ВС (взаимодействие по Микрософт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7640" y="3141720"/>
            <a:ext cx="2016360" cy="11509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5300640"/>
            <a:ext cx="2016360" cy="936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852640"/>
            <a:ext cx="792360" cy="3424320"/>
          </a:xfrm>
          <a:prstGeom prst="downArrow">
            <a:avLst>
              <a:gd name="adj1" fmla="val 58315"/>
              <a:gd name="adj2" fmla="val 2525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365720"/>
            <a:ext cx="1224000" cy="863640"/>
          </a:xfrm>
          <a:prstGeom prst="leftArrow">
            <a:avLst>
              <a:gd name="adj1" fmla="val 50000"/>
              <a:gd name="adj2" fmla="val 35431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2637000"/>
            <a:ext cx="1224000" cy="863280"/>
          </a:xfrm>
          <a:prstGeom prst="leftArrow">
            <a:avLst>
              <a:gd name="adj1" fmla="val 50000"/>
              <a:gd name="adj2" fmla="val 35446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777120" y="357588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 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Архитектура</a:t>
            </a:r>
            <a:br>
              <a:rPr sz="44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взаимодействия на одном компьютер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1360" y="155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133720"/>
            <a:ext cx="302436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4365720"/>
            <a:ext cx="302580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еникс-Интерф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3214800"/>
            <a:ext cx="2016360" cy="11509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133720"/>
            <a:ext cx="2808360" cy="32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4365720"/>
            <a:ext cx="2089440" cy="88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аги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4221000"/>
            <a:ext cx="2232000" cy="1295640"/>
          </a:xfrm>
          <a:prstGeom prst="leftRightArrow">
            <a:avLst>
              <a:gd name="adj1" fmla="val 50000"/>
              <a:gd name="adj2" fmla="val 34294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1:48:30Z</dcterms:created>
  <dc:creator>SV</dc:creator>
  <dc:description/>
  <dc:language>en-US</dc:language>
  <cp:lastModifiedBy>SV</cp:lastModifiedBy>
  <dcterms:modified xsi:type="dcterms:W3CDTF">2006-06-18T13:07:25Z</dcterms:modified>
  <cp:revision>60</cp:revision>
  <dc:subject/>
  <dc:title>Слайд 1</dc:title>
</cp:coreProperties>
</file>