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B89-FBB8-4733-86C5-DFDFFDC2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C83-D91E-4665-9451-0730F0B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F3B-80C4-44E8-A347-B307841F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BBC-5937-42E6-86C9-3ADC6CAC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F5E-9A52-47F2-92FD-0DE2C127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B883-D37B-4AD8-B8A5-5EF6FD3A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F56-8C9A-4212-AF7E-5BCEA16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88B4-B704-4E45-8D84-DD386CC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8C71-0F61-4C8B-B3B7-80E8932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B61A-A647-4E78-9A62-23EE77D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19B8-F732-4186-AB82-825C4F8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18A-0860-4B7A-8018-E57A7D7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A665-CC7D-4F0C-A5F3-A7A03252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F2A-9E3E-4684-A935-D43A62E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27A-EF77-4A7B-9069-D638B053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8497-AD20-446D-9431-1EA54041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CEFE-B3D6-4084-85A3-2E34DCB3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3AC-A15F-435A-B618-4E36023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E19-780B-4A97-8D2D-5AB28611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B6E-881C-47FE-801F-ED21500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377-75D1-4A41-950E-0990779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EDD-5594-4821-914F-DFD187D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8CF-6EAA-47B9-B677-9030C25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DDC-0ABC-4492-AB74-F34CBAF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259-F0DE-4C0A-9DCF-FD6E51AADC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487-3FEE-45FD-B396-8B8B31F644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3357360"/>
            <a:ext cx="70549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граммное решение для ведения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немосхемы с использованием экрана коллективного пользовани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8920" y="4437000"/>
            <a:ext cx="6046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ания Моду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swman.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учное ведение мнемосх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чное ведение нетелемеханизирован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 присоединений с одной системы шин на друг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вод на обходную С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ятие с телемеханического контр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метки о повреждениях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мобильными элемен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86240" y="867600"/>
            <a:ext cx="7862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становка «мобильных» элемент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42880"/>
            <a:ext cx="76932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к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ные зазем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т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метки проведения ремонтных раб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332520" y="55440"/>
            <a:ext cx="5292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становка плакат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стемный журн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495520"/>
            <a:ext cx="9144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03800" y="244440"/>
            <a:ext cx="51494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еративный журн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375000" y="27000"/>
            <a:ext cx="5428440" cy="5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дробные сх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0160" y="316440"/>
            <a:ext cx="8099640" cy="10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активная работа с ЭК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омощью специального ПО возможно использование мыши и клавиатуры установленного на РМ диспетчера, для управления компьютера ЭК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ключение между заранее настроенными конфигурац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23800" y="315720"/>
            <a:ext cx="8564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допустимые на ЭКП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ерации пользовательского интерфейс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КП необходимо полностью исключить операции, требующие точных операций мышью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бота с меню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нопками инструментальных пан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ередвижение окон, изменение размеров окон через раздвигание рам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ыбор элементов на сх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бота со стандартным скролле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опустимые опер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скивание мышью изображения – с прижатой кнопкой (в случае применения достаточно быстродействующей видеосистем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роллирование с помощью колесика 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ключение режимов отображения с помощью клавиатурных комбина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знач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мена основного щита МосРДУ на время реконстр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в качестве основного диспетчерского щита ДС Мосэнер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тавилась задача замены комплекса АСДУ, ведения режимных параме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шения для дистанционного управления окнами на ЭКП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паратные решения - с помощью специализированных устрой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ch Scree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рафические таблет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ные решения – удаленное управление П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MContro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819000"/>
            <a:ext cx="89647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токи управления ЭКП с рабочего мес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Управление состоянием схемы (ведение) – через БД состоян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QL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телемеханизированного оборудов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через протокол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й телемеханизированного оборуд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правление окнами на экране - с помощью программ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MControl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чере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й диспетчер может независимо управлять любым из потоков в любой момент вре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если у него есть соответствующие пра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случае отказа ЭК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а контроллера ЭКП. Один в рабочем режиме, другой – в горячем резерв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 же схема доступна на всех рабочих местах диспетчеров, однако в худшей обзо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Дополнительное представл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ем представляемой информаци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нергообъект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дстанции, линии 110-220-500 кВ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800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/ 13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Электростанции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5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ставе схем энергообъект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истемы шин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Генераторы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1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Трансформаторы 110-500 кВ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ыключатели (с текущей фиксацией)  </a:t>
            </a:r>
            <a:r>
              <a:rPr b="0" lang="ru-RU" sz="2400" spc="-1" strike="noStrike">
                <a:solidFill>
                  <a:srgbClr val="ff99ff"/>
                </a:solidFill>
                <a:latin typeface="Tahoma"/>
              </a:rPr>
              <a:t>2700 присоедин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Разъединители (выборочно)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инхронные компенсаторы, реакторы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ем выводимой информ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фигурация ЭК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x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идеокуба 4096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230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икс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ан подход, позволяющий уместить на экране схему в требуемой конфигур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рабочих места диспетч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81680" y="298800"/>
            <a:ext cx="81806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делирование присоедин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1263600"/>
            <a:ext cx="7056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нятие представле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ин «композитный» графический элемент моделирует целое присоединение – около 5-10 коммутационных аппара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можность построения достоверной электрической коммутационной модели сети на основе одного схемного представ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379680" y="31680"/>
            <a:ext cx="5408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д схе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Получение данных телеметр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го 2000 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4000 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рно 60% выключателей телемеханизированы, состояние остальных ведется вручную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ные поступают с сервера телемехани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Т-Соф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протокол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P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ак выглядит схема на ЭКП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5473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160" y="723960"/>
            <a:ext cx="906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6:54:26Z</dcterms:created>
  <dc:creator>Сергей Амелин</dc:creator>
  <dc:description/>
  <dc:language>en-US</dc:language>
  <cp:lastModifiedBy>SV</cp:lastModifiedBy>
  <dcterms:modified xsi:type="dcterms:W3CDTF">2007-04-13T05:11:22Z</dcterms:modified>
  <cp:revision>99</cp:revision>
  <dc:subject/>
  <dc:title>Программное решение для ведения мнемосхемы с использованием экрана коллективного пользования </dc:title>
</cp:coreProperties>
</file>