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4.jpeg" ContentType="image/jpeg"/>
  <Override PartName="/ppt/media/image8.png" ContentType="image/png"/>
  <Override PartName="/ppt/media/image4.png" ContentType="image/png"/>
  <Override PartName="/ppt/media/image27.png" ContentType="image/png"/>
  <Override PartName="/ppt/media/WAYNE.WAV" ContentType="audio/x-wav"/>
  <Override PartName="/ppt/media/image6.png" ContentType="image/png"/>
  <Override PartName="/ppt/media/image7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10.jpeg" ContentType="image/jpeg"/>
  <Override PartName="/ppt/media/image28.png" ContentType="image/png"/>
  <Override PartName="/ppt/media/CHIMES.WAV" ContentType="audio/x-wav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DA96-0B53-4958-9CE5-ED24B126BF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D89D-42F7-49B5-A422-354F474BA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0052-8B9D-4546-A07A-F07FACB15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5FCC-EEE1-4957-96A7-825746372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95C7-64CE-4F46-8236-882812250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63B4-1414-4453-B0E0-33FE316B9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1B8E-3975-44CD-A228-886E47EFD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B31-C130-4D2A-A14D-B1E7BA079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8970-A7CB-4FFE-AE68-434EB4E1B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A64C-EBB7-4AC2-BB75-D116B0088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0CB1-8199-4608-9A04-90D9C418D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D0DE-ED92-4854-A59A-8CEC27F2C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8A4-76AF-4897-8F25-C929BBF8CB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1F17-7B62-4CBC-8879-4204A0CAE7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6B13-08FB-4FD8-A852-CAE3B1316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A53E-86B2-4DFA-BB5F-337C56D70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D2F-ACAD-47EC-8D86-09F9E529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0B7-E671-4D04-8243-65E922F4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767-4541-4AEC-90F8-4260D263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9DA-655A-4444-A553-A51E2B16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8E1A-CB42-4263-8B8A-9727A27B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ADA5-06B6-42F5-92A2-A3C30069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7C24-0334-4C10-BC16-A36A4CAE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105F-7FD2-4CFF-BAE6-9E0743AD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9742-EF25-4320-8384-3CD18149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46B-A3E8-4A29-9F9A-4D482E58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2DDA-EF89-4E34-A688-DED67DA8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BE4-3DAE-4412-BEB4-B0AB2BEA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3AC6-3F4B-4751-92C2-B76B92C0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F0B8-59D3-43A2-97E8-CC2FFFD4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3BED-335F-4A77-8D83-DF866D50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45C0-FB3E-48F6-8950-65A23186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C019-05E9-4737-B949-EA823B51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E5E-2A48-4565-A918-7A75F29B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0C4-7D2F-482C-8F73-4417ECC3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981-2D6D-4A97-8325-DBF8AA4A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670-9915-4173-8E76-F0DDBDF3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8D5-01D4-439C-9027-537E858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4EB-758F-45ED-94CB-A3BB764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CC3-EA70-4654-8002-333E0E6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E0C9-5C44-4142-9A5C-9F67B6B0075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D5AD-0BB5-4DF2-A56B-37AEE490F2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AYN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modus1"/>
          <p:cNvPicPr/>
          <p:nvPr/>
        </p:nvPicPr>
        <p:blipFill>
          <a:blip r:embed="rId1"/>
          <a:stretch/>
        </p:blipFill>
        <p:spPr>
          <a:xfrm>
            <a:off x="179280" y="333360"/>
            <a:ext cx="3592800" cy="6257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14400" y="1700280"/>
            <a:ext cx="5205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ЭЛЕКТРОННЫЙ ЖУРНА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348000" y="4365360"/>
            <a:ext cx="5546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ЕДЕЛИТЕЛЬНЫ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9640" y="602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66760" y="611352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580000" y="58770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ания Модус 200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292720" y="6237360"/>
            <a:ext cx="33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ограммное обеспечение для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modus2"/>
          <p:cNvPicPr/>
          <p:nvPr/>
        </p:nvPicPr>
        <p:blipFill>
          <a:blip r:embed="rId2"/>
          <a:stretch/>
        </p:blipFill>
        <p:spPr>
          <a:xfrm>
            <a:off x="3780000" y="333360"/>
            <a:ext cx="4824360" cy="8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923280" y="6308640"/>
            <a:ext cx="48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еративное ведение электрической схемы и мнемощи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"/>
          <p:cNvPicPr/>
          <p:nvPr/>
        </p:nvPicPr>
        <p:blipFill>
          <a:blip r:embed="rId1"/>
          <a:stretch/>
        </p:blipFill>
        <p:spPr>
          <a:xfrm>
            <a:off x="395280" y="260280"/>
            <a:ext cx="8101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нтеграция с другими базами данных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9280" y="119700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Ключи привязки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79280" y="2924280"/>
            <a:ext cx="136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Ввод новых данных в БД со схемы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79280" y="5084640"/>
            <a:ext cx="136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79280" y="2133720"/>
            <a:ext cx="15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Показ данных из БД на схеме</a:t>
            </a:r>
            <a:r>
              <a:rPr b="1" lang="en-US" sz="1400" spc="-1" strike="noStrike">
                <a:solidFill>
                  <a:srgbClr val="996600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integ1"/>
          <p:cNvPicPr/>
          <p:nvPr/>
        </p:nvPicPr>
        <p:blipFill>
          <a:blip r:embed="rId1"/>
          <a:stretch/>
        </p:blipFill>
        <p:spPr>
          <a:xfrm>
            <a:off x="1979640" y="1413000"/>
            <a:ext cx="6480000" cy="432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integ"/>
          <p:cNvPicPr/>
          <p:nvPr/>
        </p:nvPicPr>
        <p:blipFill>
          <a:blip r:embed="rId2"/>
          <a:stretch/>
        </p:blipFill>
        <p:spPr>
          <a:xfrm>
            <a:off x="4427640" y="2781360"/>
            <a:ext cx="372420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40"/>
                            </p:stCondLst>
                            <p:childTnLst>
                              <p:par>
                                <p:cTn id="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204720" y="6308640"/>
            <a:ext cx="56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мер вызова паспортных данных по коммутационному аппарат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5"/>
          <p:cNvPicPr/>
          <p:nvPr/>
        </p:nvPicPr>
        <p:blipFill>
          <a:blip r:embed="rId1"/>
          <a:stretch/>
        </p:blipFill>
        <p:spPr>
          <a:xfrm>
            <a:off x="468360" y="333360"/>
            <a:ext cx="792000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983680" y="6237360"/>
            <a:ext cx="550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лан-схема, мнемосхема, подробная схема ТП, схема заполнения Т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7777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стояние схем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914400" y="2209680"/>
            <a:ext cx="3657600" cy="914400"/>
            <a:chOff x="914400" y="2209680"/>
            <a:chExt cx="3657600" cy="914400"/>
          </a:xfrm>
        </p:grpSpPr>
        <p:sp>
          <p:nvSpPr>
            <p:cNvPr id="164" name="AutoShape 4"/>
            <p:cNvSpPr/>
            <p:nvPr/>
          </p:nvSpPr>
          <p:spPr>
            <a:xfrm>
              <a:off x="914400" y="2209680"/>
              <a:ext cx="3657600" cy="914400"/>
            </a:xfrm>
            <a:prstGeom prst="flowChartProcess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"/>
            <p:cNvSpPr/>
            <p:nvPr/>
          </p:nvSpPr>
          <p:spPr>
            <a:xfrm>
              <a:off x="989280" y="2362320"/>
              <a:ext cx="322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остояние схе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304920" y="3124080"/>
            <a:ext cx="3809880" cy="2819520"/>
            <a:chOff x="304920" y="3124080"/>
            <a:chExt cx="3809880" cy="2819520"/>
          </a:xfrm>
        </p:grpSpPr>
        <p:sp>
          <p:nvSpPr>
            <p:cNvPr id="167" name="Text Box 7"/>
            <p:cNvSpPr/>
            <p:nvPr/>
          </p:nvSpPr>
          <p:spPr>
            <a:xfrm>
              <a:off x="457200" y="4495680"/>
              <a:ext cx="3657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Оперативное состояние схе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8"/>
            <p:cNvSpPr/>
            <p:nvPr/>
          </p:nvSpPr>
          <p:spPr>
            <a:xfrm>
              <a:off x="304920" y="4191120"/>
              <a:ext cx="3733560" cy="1752480"/>
            </a:xfrm>
            <a:prstGeom prst="flowChartProcess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 flipH="1">
              <a:off x="1447560" y="3124080"/>
              <a:ext cx="152280" cy="99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4114800" y="3124080"/>
            <a:ext cx="4267080" cy="2819520"/>
            <a:chOff x="4114800" y="3124080"/>
            <a:chExt cx="4267080" cy="2819520"/>
          </a:xfrm>
        </p:grpSpPr>
        <p:sp>
          <p:nvSpPr>
            <p:cNvPr id="171" name="AutoShape 11"/>
            <p:cNvSpPr/>
            <p:nvPr/>
          </p:nvSpPr>
          <p:spPr>
            <a:xfrm>
              <a:off x="4267080" y="4191120"/>
              <a:ext cx="4114800" cy="1752480"/>
            </a:xfrm>
            <a:prstGeom prst="flowChartProcess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"/>
            <p:cNvSpPr/>
            <p:nvPr/>
          </p:nvSpPr>
          <p:spPr>
            <a:xfrm>
              <a:off x="4114800" y="3124080"/>
              <a:ext cx="533520" cy="10670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4495680" y="4343400"/>
              <a:ext cx="358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остояние схемы на указанный момент времен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4572000" y="2209680"/>
            <a:ext cx="3971880" cy="914400"/>
            <a:chOff x="4572000" y="2209680"/>
            <a:chExt cx="3971880" cy="914400"/>
          </a:xfrm>
        </p:grpSpPr>
        <p:sp>
          <p:nvSpPr>
            <p:cNvPr id="175" name="AutoShape 15"/>
            <p:cNvSpPr/>
            <p:nvPr/>
          </p:nvSpPr>
          <p:spPr>
            <a:xfrm>
              <a:off x="5334120" y="2209680"/>
              <a:ext cx="3209760" cy="914400"/>
            </a:xfrm>
            <a:prstGeom prst="flowChartProcess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6"/>
            <p:cNvSpPr/>
            <p:nvPr/>
          </p:nvSpPr>
          <p:spPr>
            <a:xfrm>
              <a:off x="5562720" y="23623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Нормаль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4572000" y="2666880"/>
              <a:ext cx="7621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едение журнал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Электронный журна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еративная информация представляется в электронном ви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строта доступ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ьшие объемы информа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ециальные выборки (отличия от НС, списки установленных ПЗ и прочее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глядность представления (качественная графика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матическое формирование отчет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лективный доступ к оперативной информации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лективный анализ оперативной информац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shot1"/>
          <p:cNvPicPr/>
          <p:nvPr/>
        </p:nvPicPr>
        <p:blipFill>
          <a:blip r:embed="rId1"/>
          <a:stretch/>
        </p:blipFill>
        <p:spPr>
          <a:xfrm>
            <a:off x="0" y="0"/>
            <a:ext cx="9468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едение электронного журнал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луавтоматическое ведение системного журнала на основе ведения истории изменения мнемосхемы и других событий в систем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матическое формирование пояснительных записей к событи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страиваемый набор событий, фиксируемых в системе. Примеры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состояний 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реждение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переносных заземлений, шунтов, мест аварий, местонахождение ОВБ, участков проведения ремонт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новка-расши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ход-осмотр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очные действия (проверка исправности, поло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ая информация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ыстрый поиск по критери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иск и выделение элементов схемы по критерия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исправное  оборудов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арийно отключенное оборудов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матическое выделение элементов схем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лементы схемы с состоянием, отличным от нормального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достоверные сигналы ТС, ТИ. Сигнал ТС, ТИ отключе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квитированные сигналы Т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нятые с контроля Т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есточенные участ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земленные участ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егруженные участ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Назнач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дение оперативной сх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токолирование изменения состояния оборудования и объ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рхни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ровень телемехан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дство доступа к альбому сх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ображение справочной информации по оборудованию, абонентам и п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матическое формирование схем (например, схем фидер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путствующее ведение журна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истемный журнал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истемном журнале фиксируются ВСЕ события в системе, в том числе и неявные (например, регистрация пользователя  в системе). Каждая запись в журнале авторизиров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3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09272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Дополнительные журнал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истеме может вестись одновременно несколько журна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ы журна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ные ПЗЗ и включенные ЗЗ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ции с ПЗЗ и ЗЗМ за сме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урнал длительных отклон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урнал снятых с контроля Т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ход ТИ за устав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урнал переключений М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урнал отклонений от нормальной сх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кация АВР и Р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ции с плака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ные отметки (плакаты, ПЗ, спетления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меры журнал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2" name="Picture 3" descr="shot3"/>
          <p:cNvPicPr/>
          <p:nvPr/>
        </p:nvPicPr>
        <p:blipFill>
          <a:blip r:embed="rId1"/>
          <a:stretch/>
        </p:blipFill>
        <p:spPr>
          <a:xfrm>
            <a:off x="0" y="1050840"/>
            <a:ext cx="115203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мер журнала РЭ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395280" y="701640"/>
          <a:ext cx="82090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1640"/>
                    <a:ext cx="82090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Формирование журнала со схем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5373360"/>
            <a:ext cx="8553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емный журнал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полняется автоматически в соответствии с изменениями оперативной схем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179280" y="1052640"/>
            <a:ext cx="8763120" cy="4068720"/>
            <a:chOff x="179280" y="1052640"/>
            <a:chExt cx="8763120" cy="4068720"/>
          </a:xfrm>
        </p:grpSpPr>
        <p:graphicFrame>
          <p:nvGraphicFramePr>
            <p:cNvPr id="199" name="Object 5"/>
            <p:cNvGraphicFramePr/>
            <p:nvPr/>
          </p:nvGraphicFramePr>
          <p:xfrm>
            <a:off x="179280" y="1052640"/>
            <a:ext cx="8763120" cy="406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9280" y="1052640"/>
                      <a:ext cx="8763120" cy="4068720"/>
                    </a:xfrm>
                    <a:prstGeom prst="rect">
                      <a:avLst/>
                    </a:prstGeom>
                    <a:ln cap="sq" w="12600">
                      <a:solidFill>
                        <a:srgbClr val="3b812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1" name="AutoShape 6"/>
            <p:cNvSpPr/>
            <p:nvPr/>
          </p:nvSpPr>
          <p:spPr>
            <a:xfrm>
              <a:off x="255600" y="4253040"/>
              <a:ext cx="8381880" cy="304920"/>
            </a:xfrm>
            <a:prstGeom prst="roundRect">
              <a:avLst>
                <a:gd name="adj" fmla="val 16667"/>
              </a:avLst>
            </a:prstGeom>
            <a:noFill/>
            <a:ln cap="sq"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7"/>
            <p:cNvSpPr/>
            <p:nvPr/>
          </p:nvSpPr>
          <p:spPr>
            <a:xfrm>
              <a:off x="3608280" y="2195640"/>
              <a:ext cx="609840" cy="381240"/>
            </a:xfrm>
            <a:prstGeom prst="roundRect">
              <a:avLst>
                <a:gd name="adj" fmla="val 16667"/>
              </a:avLst>
            </a:prstGeom>
            <a:noFill/>
            <a:ln cap="sq"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4065480" y="2576880"/>
              <a:ext cx="914400" cy="1676160"/>
            </a:xfrm>
            <a:prstGeom prst="line">
              <a:avLst/>
            </a:prstGeom>
            <a:ln cap="sq" w="38160">
              <a:solidFill>
                <a:srgbClr val="3b812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0108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ыборки и сортировки по журнала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борка записей по журнал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момента регистрации диспетчера в систем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предыдущей регистрации диспетчера в систем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писи, связанные с изменениями оперативной схемы за указанный период времен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писи, связанные с изменениями на выбранном энергообъекте (ах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писи в указанном диапазоне, относящиеся к аварийным переключениям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ртировка записей по объектам, дате и времени и п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зграничения прав доступ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егории пользователей ПО ведения мнемосхемы и электронного журна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Администрато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траивает работу сист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перат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ведет оперативную схему и журна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блюдате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осматривает опер. схему и журн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Инспекто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вносит записи в графу Визы и Замеч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Г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осмотр сх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страция посменной работы пользоват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562788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еимуще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лядность в отображении данных и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ство интеграции разнородн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ый пользовательский интерфей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аиваемое представление данных на разных рабочих мес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добство эксплуа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а связь между элементами мнемосхемы и записями в журн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ое ведение истории изменения мнемо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 к оперативной информации для руководящего персо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ерехода от мнемощитов к экранам коллективного поль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бство в подготовке справочных данных и от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лядность отображения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бство и легкость поддержки при изменении состава оборудования (демонтаж или пуск нового оборудо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втоматическое ведение мнемосхем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324000" y="1052640"/>
            <a:ext cx="3528000" cy="1224000"/>
            <a:chOff x="324000" y="1052640"/>
            <a:chExt cx="3528000" cy="1224000"/>
          </a:xfrm>
        </p:grpSpPr>
        <p:sp>
          <p:nvSpPr>
            <p:cNvPr id="212" name="Rectangle 4"/>
            <p:cNvSpPr/>
            <p:nvPr/>
          </p:nvSpPr>
          <p:spPr>
            <a:xfrm>
              <a:off x="324000" y="1052640"/>
              <a:ext cx="3183480" cy="1224000"/>
            </a:xfrm>
            <a:prstGeom prst="rect">
              <a:avLst/>
            </a:prstGeom>
            <a:solidFill>
              <a:srgbClr val="cc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409320" y="1268280"/>
              <a:ext cx="34426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КАДА-Сервер(а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или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xy-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ервер (а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AutoShape 7"/>
          <p:cNvSpPr/>
          <p:nvPr/>
        </p:nvSpPr>
        <p:spPr>
          <a:xfrm>
            <a:off x="5724360" y="2133720"/>
            <a:ext cx="2953080" cy="244764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084720" y="2997360"/>
            <a:ext cx="2305080" cy="1313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Д история изменения состояния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9"/>
          <p:cNvGrpSpPr/>
          <p:nvPr/>
        </p:nvGrpSpPr>
        <p:grpSpPr>
          <a:xfrm>
            <a:off x="4787640" y="4365720"/>
            <a:ext cx="2376720" cy="576000"/>
            <a:chOff x="4787640" y="4365720"/>
            <a:chExt cx="2376720" cy="576000"/>
          </a:xfrm>
        </p:grpSpPr>
        <p:sp>
          <p:nvSpPr>
            <p:cNvPr id="217" name="Line 10"/>
            <p:cNvSpPr/>
            <p:nvPr/>
          </p:nvSpPr>
          <p:spPr>
            <a:xfrm flipH="1">
              <a:off x="4787640" y="494172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7164360" y="436572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13"/>
          <p:cNvSpPr/>
          <p:nvPr/>
        </p:nvSpPr>
        <p:spPr>
          <a:xfrm>
            <a:off x="395280" y="3716280"/>
            <a:ext cx="4392720" cy="22338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824400" y="5445000"/>
            <a:ext cx="35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ее место диспетч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5"/>
          <p:cNvSpPr/>
          <p:nvPr/>
        </p:nvSpPr>
        <p:spPr>
          <a:xfrm>
            <a:off x="639720" y="4160880"/>
            <a:ext cx="3822840" cy="1258920"/>
          </a:xfrm>
          <a:prstGeom prst="roundRect">
            <a:avLst>
              <a:gd name="adj" fmla="val 16667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294560" y="460548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ая 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7"/>
          <p:cNvGrpSpPr/>
          <p:nvPr/>
        </p:nvGrpSpPr>
        <p:grpSpPr>
          <a:xfrm>
            <a:off x="2195640" y="2276640"/>
            <a:ext cx="2879640" cy="1512720"/>
            <a:chOff x="2195640" y="2276640"/>
            <a:chExt cx="2879640" cy="1512720"/>
          </a:xfrm>
        </p:grpSpPr>
        <p:sp>
          <p:nvSpPr>
            <p:cNvPr id="224" name="Line 18"/>
            <p:cNvSpPr/>
            <p:nvPr/>
          </p:nvSpPr>
          <p:spPr>
            <a:xfrm>
              <a:off x="2195640" y="2276640"/>
              <a:ext cx="0" cy="151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2195640" y="270828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стоверность ТС,ТИ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начения ТИ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0"/>
          <p:cNvGrpSpPr/>
          <p:nvPr/>
        </p:nvGrpSpPr>
        <p:grpSpPr>
          <a:xfrm>
            <a:off x="3564000" y="907920"/>
            <a:ext cx="4753080" cy="1225800"/>
            <a:chOff x="3564000" y="907920"/>
            <a:chExt cx="4753080" cy="1225800"/>
          </a:xfrm>
        </p:grpSpPr>
        <p:sp>
          <p:nvSpPr>
            <p:cNvPr id="227" name="Line 21"/>
            <p:cNvSpPr/>
            <p:nvPr/>
          </p:nvSpPr>
          <p:spPr>
            <a:xfrm>
              <a:off x="7164360" y="17733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2"/>
            <p:cNvSpPr/>
            <p:nvPr/>
          </p:nvSpPr>
          <p:spPr>
            <a:xfrm>
              <a:off x="3635280" y="907920"/>
              <a:ext cx="468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дение истории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менения Т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ПТ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ходов ТИ за уставки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витирования Т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ПТ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>
              <a:off x="3564000" y="1773360"/>
              <a:ext cx="3600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овые технологии в решении диспетчерских задач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087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ктронный журнал – верхний уровень О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ктронный журнал – Анализ реж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ктронный журнал – Схемы «МОДУС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ктронный журнал – БД переключ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ктронный журнал – Модель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ктронный журнал – Подготовка кад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ктронный журнал – БД оборуд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AY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еимуще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77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глядность в отображении данных и состоя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едство интеграции разнород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диный пользовательский интерфей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страиваемое представление данных на разных рабочих места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удобство эксплуат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вязь с телемеханик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7920" y="333360"/>
            <a:ext cx="850572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Связь с телемеханикой – СКАДА клиент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179280" y="105264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Физический уровень</a:t>
            </a:r>
            <a:r>
              <a:rPr b="1" lang="en-US" sz="1400" spc="-1" strike="noStrike">
                <a:solidFill>
                  <a:srgbClr val="cc6600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179280" y="2997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Квитированиесобытий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250920" y="4724280"/>
            <a:ext cx="107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Журнал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КАДА-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обытий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179280" y="198900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-управление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179280" y="249228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-измерен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9" descr="КЭС - ДП и КП"/>
          <p:cNvPicPr/>
          <p:nvPr/>
        </p:nvPicPr>
        <p:blipFill>
          <a:blip r:embed="rId1"/>
          <a:stretch/>
        </p:blipFill>
        <p:spPr>
          <a:xfrm>
            <a:off x="1835280" y="1125360"/>
            <a:ext cx="6948360" cy="48801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0"/>
          <p:cNvSpPr/>
          <p:nvPr/>
        </p:nvSpPr>
        <p:spPr>
          <a:xfrm>
            <a:off x="179280" y="15573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 –измерен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"/>
                            </p:stCondLst>
                            <p:childTnLst>
                              <p:par>
                                <p:cTn id="19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хема телемеха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48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37920" y="333360"/>
            <a:ext cx="850572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Связь с телемеханикой – СКАДА клиент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79280" y="105264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Физический уровень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79280" y="299736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Квитированиесобытий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24000" y="4797360"/>
            <a:ext cx="107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Журнал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КАДА-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обытий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79280" y="198900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-управление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79280" y="249228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-измерен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79280" y="15573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Теле –измерения</a:t>
            </a:r>
            <a:r>
              <a:rPr b="1" lang="en-US" sz="1400" spc="-1" strike="noStrike">
                <a:solidFill>
                  <a:srgbClr val="cc6600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сеть1"/>
          <p:cNvPicPr/>
          <p:nvPr/>
        </p:nvPicPr>
        <p:blipFill>
          <a:blip r:embed="rId1"/>
          <a:stretch/>
        </p:blipFill>
        <p:spPr>
          <a:xfrm>
            <a:off x="1763640" y="1125360"/>
            <a:ext cx="6912000" cy="47944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2"/>
          <p:cNvSpPr/>
          <p:nvPr/>
        </p:nvSpPr>
        <p:spPr>
          <a:xfrm>
            <a:off x="250920" y="364500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Недостоверный сигнал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 rot="19736400">
            <a:off x="2050560" y="1699920"/>
            <a:ext cx="649440" cy="269640"/>
          </a:xfrm>
          <a:prstGeom prst="rightArrow">
            <a:avLst>
              <a:gd name="adj1" fmla="val 50000"/>
              <a:gd name="adj2" fmla="val 6021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3446000">
            <a:off x="7019640" y="28206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00"/>
                            </p:stCondLst>
                            <p:childTnLst>
                              <p:par>
                                <p:cTn id="2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880"/>
                            </p:stCondLst>
                            <p:childTnLst>
                              <p:par>
                                <p:cTn id="20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7920" y="333360"/>
            <a:ext cx="850572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Связь с телемеханикой – СКАДА клиент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79280" y="105264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Физический уровень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198900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Теле-управление</a:t>
            </a:r>
            <a:r>
              <a:rPr b="1" lang="en-US" sz="1400" spc="-1" strike="noStrike">
                <a:solidFill>
                  <a:srgbClr val="996600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179280" y="24922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 сигнализац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179280" y="15573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 –измерен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" descr="сеть1"/>
          <p:cNvPicPr/>
          <p:nvPr/>
        </p:nvPicPr>
        <p:blipFill>
          <a:blip r:embed="rId1"/>
          <a:stretch/>
        </p:blipFill>
        <p:spPr>
          <a:xfrm>
            <a:off x="1763640" y="1125360"/>
            <a:ext cx="6912000" cy="4794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pmenu1"/>
          <p:cNvPicPr/>
          <p:nvPr/>
        </p:nvPicPr>
        <p:blipFill>
          <a:blip r:embed="rId2"/>
          <a:stretch/>
        </p:blipFill>
        <p:spPr>
          <a:xfrm>
            <a:off x="5148360" y="2708280"/>
            <a:ext cx="2819160" cy="1238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3"/>
          <p:cNvSpPr/>
          <p:nvPr/>
        </p:nvSpPr>
        <p:spPr>
          <a:xfrm>
            <a:off x="179280" y="306864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Недостоверный сигнал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4"/>
          <p:cNvSpPr/>
          <p:nvPr/>
        </p:nvSpPr>
        <p:spPr>
          <a:xfrm rot="13571400">
            <a:off x="7695360" y="311328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24000" y="4797360"/>
            <a:ext cx="107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Журнал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КАДА-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обытий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"/>
                            </p:stCondLst>
                            <p:childTnLst>
                              <p:par>
                                <p:cTn id="21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900"/>
                            </p:stCondLst>
                            <p:childTnLst>
                              <p:par>
                                <p:cTn id="21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37920" y="333360"/>
            <a:ext cx="850572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Связь с телемеханикой – СКАДА клиент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79280" y="105264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Физический уровень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79280" y="198900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-управление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79280" y="24922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Теле сигнализация</a:t>
            </a:r>
            <a:r>
              <a:rPr b="1" lang="en-US" sz="1400" spc="-1" strike="noStrike">
                <a:solidFill>
                  <a:srgbClr val="996600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79280" y="15573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 –измерен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179280" y="306864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Недостоверный сигнал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4" descr="сеть2"/>
          <p:cNvPicPr/>
          <p:nvPr/>
        </p:nvPicPr>
        <p:blipFill>
          <a:blip r:embed="rId1"/>
          <a:stretch/>
        </p:blipFill>
        <p:spPr>
          <a:xfrm>
            <a:off x="1763640" y="1125360"/>
            <a:ext cx="6840720" cy="47358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15"/>
          <p:cNvSpPr/>
          <p:nvPr/>
        </p:nvSpPr>
        <p:spPr>
          <a:xfrm rot="19254000">
            <a:off x="2050920" y="1700280"/>
            <a:ext cx="649440" cy="269640"/>
          </a:xfrm>
          <a:prstGeom prst="rightArrow">
            <a:avLst>
              <a:gd name="adj1" fmla="val 50000"/>
              <a:gd name="adj2" fmla="val 6021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"/>
          <p:cNvSpPr/>
          <p:nvPr/>
        </p:nvSpPr>
        <p:spPr>
          <a:xfrm rot="13160400">
            <a:off x="5219280" y="3068640"/>
            <a:ext cx="649440" cy="270000"/>
          </a:xfrm>
          <a:prstGeom prst="rightArrow">
            <a:avLst>
              <a:gd name="adj1" fmla="val 50000"/>
              <a:gd name="adj2" fmla="val 6013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24000" y="4797360"/>
            <a:ext cx="107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Журнал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КАДА-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обытий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100"/>
                            </p:stCondLst>
                            <p:childTnLst>
                              <p:par>
                                <p:cTn id="22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920"/>
                            </p:stCondLst>
                            <p:childTnLst>
                              <p:par>
                                <p:cTn id="22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37920" y="333360"/>
            <a:ext cx="850572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Связь с телемеханикой – СКАДА клиент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79280" y="105264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Физический уровень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79280" y="198900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-управление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9280" y="24922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 сигнализац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79280" y="15573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 –измерен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179280" y="306864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Недостоверный сигнал</a:t>
            </a:r>
            <a:r>
              <a:rPr b="1" lang="en-US" sz="1400" spc="-1" strike="noStrike">
                <a:solidFill>
                  <a:srgbClr val="996600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сеть3"/>
          <p:cNvPicPr/>
          <p:nvPr/>
        </p:nvPicPr>
        <p:blipFill>
          <a:blip r:embed="rId1"/>
          <a:stretch/>
        </p:blipFill>
        <p:spPr>
          <a:xfrm>
            <a:off x="1835280" y="1052640"/>
            <a:ext cx="6842160" cy="460836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13"/>
          <p:cNvSpPr/>
          <p:nvPr/>
        </p:nvSpPr>
        <p:spPr>
          <a:xfrm rot="19254000">
            <a:off x="2195280" y="472392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24000" y="4869000"/>
            <a:ext cx="107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Журнал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КАДА-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обытий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00"/>
                            </p:stCondLst>
                            <p:childTnLst>
                              <p:par>
                                <p:cTn id="24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980"/>
                            </p:stCondLst>
                            <p:childTnLst>
                              <p:par>
                                <p:cTn id="2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37920" y="333360"/>
            <a:ext cx="850572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Связь с телемеханикой – СКАДА клиент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79280" y="105264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Физический уровень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79280" y="198900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-управление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79280" y="24922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 сигнализац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79280" y="15573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Теле –измерения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79280" y="306864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Недостоверный сигнал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324000" y="4724280"/>
            <a:ext cx="107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Журнал</a:t>
            </a:r>
            <a:br>
              <a:rPr sz="1400"/>
            </a:b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СКАДА-</a:t>
            </a:r>
            <a:br>
              <a:rPr sz="1400"/>
            </a:b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событий</a:t>
            </a:r>
            <a:r>
              <a:rPr b="1" lang="en-US" sz="1400" spc="-1" strike="noStrike">
                <a:solidFill>
                  <a:srgbClr val="996600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2" descr="сеть6"/>
          <p:cNvPicPr/>
          <p:nvPr/>
        </p:nvPicPr>
        <p:blipFill>
          <a:blip r:embed="rId1"/>
          <a:stretch/>
        </p:blipFill>
        <p:spPr>
          <a:xfrm>
            <a:off x="1763640" y="1125360"/>
            <a:ext cx="7129440" cy="48960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3"/>
          <p:cNvSpPr/>
          <p:nvPr/>
        </p:nvSpPr>
        <p:spPr>
          <a:xfrm>
            <a:off x="971640" y="558972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00"/>
                            </p:stCondLst>
                            <p:childTnLst>
                              <p:par>
                                <p:cTn id="25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20"/>
                            </p:stCondLst>
                            <p:childTnLst>
                              <p:par>
                                <p:cTn id="25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362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нализ режим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79280" y="1052640"/>
            <a:ext cx="14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Выделение отключенных участков сети</a:t>
            </a:r>
            <a:r>
              <a:rPr b="1" lang="en-US" sz="1400" spc="-1" strike="noStrike">
                <a:solidFill>
                  <a:srgbClr val="996600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179280" y="184464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Выделение отклонений от нормальной схемы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сеть5"/>
          <p:cNvPicPr/>
          <p:nvPr/>
        </p:nvPicPr>
        <p:blipFill>
          <a:blip r:embed="rId1"/>
          <a:stretch/>
        </p:blipFill>
        <p:spPr>
          <a:xfrm>
            <a:off x="1835280" y="1197000"/>
            <a:ext cx="6913440" cy="4464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13"/>
          <p:cNvSpPr/>
          <p:nvPr/>
        </p:nvSpPr>
        <p:spPr>
          <a:xfrm rot="19254000">
            <a:off x="6443640" y="4941720"/>
            <a:ext cx="649440" cy="270000"/>
          </a:xfrm>
          <a:prstGeom prst="rightArrow">
            <a:avLst>
              <a:gd name="adj1" fmla="val 50000"/>
              <a:gd name="adj2" fmla="val 6013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20"/>
                            </p:stCondLst>
                            <p:childTnLst>
                              <p:par>
                                <p:cTn id="26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860"/>
                            </p:stCondLst>
                            <p:childTnLst>
                              <p:par>
                                <p:cTn id="26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362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нализ режим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79280" y="1052640"/>
            <a:ext cx="14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Выделение отключенных участков сети</a:t>
            </a: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179280" y="184464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Выделение отклонений от нормальной схемы</a:t>
            </a:r>
            <a:r>
              <a:rPr b="1" lang="en-US" sz="1400" spc="-1" strike="noStrike">
                <a:solidFill>
                  <a:srgbClr val="996600"/>
                </a:solidFill>
                <a:latin typeface="Garamond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1" descr="сеть5"/>
          <p:cNvPicPr/>
          <p:nvPr/>
        </p:nvPicPr>
        <p:blipFill>
          <a:blip r:embed="rId1"/>
          <a:stretch/>
        </p:blipFill>
        <p:spPr>
          <a:xfrm>
            <a:off x="1835280" y="1197000"/>
            <a:ext cx="6913440" cy="44640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2"/>
          <p:cNvSpPr/>
          <p:nvPr/>
        </p:nvSpPr>
        <p:spPr>
          <a:xfrm rot="13003800">
            <a:off x="4716360" y="3860640"/>
            <a:ext cx="649440" cy="270000"/>
          </a:xfrm>
          <a:prstGeom prst="rightArrow">
            <a:avLst>
              <a:gd name="adj1" fmla="val 50000"/>
              <a:gd name="adj2" fmla="val 6013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20"/>
                            </p:stCondLst>
                            <p:childTnLst>
                              <p:par>
                                <p:cTn id="27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40"/>
                            </p:stCondLst>
                            <p:childTnLst>
                              <p:par>
                                <p:cTn id="27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едение мнемосхем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База данных оперативных переключений</a:t>
            </a:r>
            <a:br>
              <a:rPr sz="38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79280" y="105264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6600"/>
                </a:solidFill>
                <a:latin typeface="Garamond"/>
              </a:rPr>
              <a:t>Выполнение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79280" y="155736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Журнал изменений оперативного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состо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9" descr="log"/>
          <p:cNvPicPr/>
          <p:nvPr/>
        </p:nvPicPr>
        <p:blipFill>
          <a:blip r:embed="rId1"/>
          <a:stretch/>
        </p:blipFill>
        <p:spPr>
          <a:xfrm>
            <a:off x="2050920" y="1125360"/>
            <a:ext cx="64296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0"/>
          <p:cNvSpPr/>
          <p:nvPr/>
        </p:nvSpPr>
        <p:spPr>
          <a:xfrm rot="19579200">
            <a:off x="1692360" y="169992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 rot="19579200">
            <a:off x="3563640" y="371628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 rot="19579200">
            <a:off x="5435280" y="3789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160"/>
                            </p:stCondLst>
                            <p:childTnLst>
                              <p:par>
                                <p:cTn id="28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База данных оперативных переключений</a:t>
            </a:r>
            <a:br>
              <a:rPr sz="38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79280" y="105264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Выполнение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79280" y="155736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Журнал изменений оперативного</a:t>
            </a:r>
            <a:br>
              <a:rPr sz="1400"/>
            </a:b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состо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0" descr="log1"/>
          <p:cNvPicPr/>
          <p:nvPr/>
        </p:nvPicPr>
        <p:blipFill>
          <a:blip r:embed="rId1"/>
          <a:stretch/>
        </p:blipFill>
        <p:spPr>
          <a:xfrm>
            <a:off x="1835280" y="3213000"/>
            <a:ext cx="6840360" cy="2752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log2"/>
          <p:cNvPicPr/>
          <p:nvPr/>
        </p:nvPicPr>
        <p:blipFill>
          <a:blip r:embed="rId2"/>
          <a:stretch/>
        </p:blipFill>
        <p:spPr>
          <a:xfrm>
            <a:off x="1835280" y="1268280"/>
            <a:ext cx="684216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160"/>
                            </p:stCondLst>
                            <p:childTnLst>
                              <p:par>
                                <p:cTn id="30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дготовка оперативного персонала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79280" y="12682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Ознакомление в режиме  наблюд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47600" y="350028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Анализ событий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по объек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250920" y="4221000"/>
            <a:ext cx="129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Проведение трениро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250920" y="5013360"/>
            <a:ext cx="1368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Анализ результатов в базе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50920" y="2276640"/>
            <a:ext cx="1441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Закрепление формулировок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в переговорах и запис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1835280" y="1268280"/>
            <a:ext cx="69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бучаемый исследует модель сети, просматривает журнал изменений оперативного состояния объекта, изучая таким образом объек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120"/>
                            </p:stCondLst>
                            <p:childTnLst>
                              <p:par>
                                <p:cTn id="31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дготовка оперативного персонала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12682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Ознакомление в режиме  наблюд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47600" y="350028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Анализ событий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по объек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50920" y="4221000"/>
            <a:ext cx="129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Проведение трениро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50920" y="5013360"/>
            <a:ext cx="1368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Анализ результатов в базе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250920" y="2276640"/>
            <a:ext cx="1441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Закрепление формулировок</a:t>
            </a:r>
            <a:br>
              <a:rPr sz="1400"/>
            </a:b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в переговорах и запис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log4"/>
          <p:cNvPicPr/>
          <p:nvPr/>
        </p:nvPicPr>
        <p:blipFill>
          <a:blip r:embed="rId1"/>
          <a:stretch/>
        </p:blipFill>
        <p:spPr>
          <a:xfrm>
            <a:off x="2411280" y="2637000"/>
            <a:ext cx="6096240" cy="31683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1979640" y="1197000"/>
            <a:ext cx="669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Шаблоны записей, формируемые автоматически,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зволяют быстро запомнить формулировки из инструкции по ведению переговор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120"/>
                            </p:stCondLst>
                            <p:childTnLst>
                              <p:par>
                                <p:cTn id="3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дготовка оперативного персонала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79280" y="12682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Ознакомление в режиме  наблюд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79280" y="350028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Анализ событий</a:t>
            </a:r>
            <a:br>
              <a:rPr sz="1400"/>
            </a:b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по объек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250920" y="4221000"/>
            <a:ext cx="129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Проведение трениро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250920" y="2276640"/>
            <a:ext cx="1441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Закрепление формулировок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в переговорах и запис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835280" y="1268280"/>
            <a:ext cx="69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Характерные события и нарушения в оперативной работе на конкретном объекте можно рассматривать при проведении спецподготовки по базе данных электронного журнал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20"/>
                            </p:stCondLst>
                            <p:childTnLst>
                              <p:par>
                                <p:cTn id="33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дготовка оперативного персонала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Line 3"/>
          <p:cNvSpPr/>
          <p:nvPr/>
        </p:nvSpPr>
        <p:spPr>
          <a:xfrm>
            <a:off x="1619280" y="1268280"/>
            <a:ext cx="0" cy="4321440"/>
          </a:xfrm>
          <a:prstGeom prst="line">
            <a:avLst/>
          </a:prstGeom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79280" y="1268280"/>
            <a:ext cx="140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Ознакомление в режиме  наблюд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47600" y="350028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Анализ событий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по объек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50920" y="4221000"/>
            <a:ext cx="129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6600"/>
                </a:solidFill>
                <a:latin typeface="Garamond"/>
              </a:rPr>
              <a:t>Проведение трениро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250920" y="2276640"/>
            <a:ext cx="1441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Закрепление формулировок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Garamond"/>
              </a:rPr>
              <a:t>в переговорах и запис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1835280" y="1268280"/>
            <a:ext cx="698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спользуя копию базы банных «Электронного журнала» можно проводить тренировки оперативного персонала на макете реального объекта или сет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20"/>
                            </p:stCondLst>
                            <p:childTnLst>
                              <p:par>
                                <p:cTn id="3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озмож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станционное управление и контро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ботка оперативной инфор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ые схемы сетей в электронном ви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зы данных вместо рукописных жур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ктронная модель объек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персонала по модели объ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 к эксплуатационной документ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8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бытия в систем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страиваемый список событ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типа события включает в себ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менование собы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я его возникнов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повой шаблон комментар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звольный набор параметр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астройка списка событи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6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AutoShape 2"/>
          <p:cNvSpPr/>
          <p:nvPr/>
        </p:nvSpPr>
        <p:spPr>
          <a:xfrm>
            <a:off x="3348000" y="1197000"/>
            <a:ext cx="5472000" cy="511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уктура БД данных Э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4572000" y="5589720"/>
            <a:ext cx="3600360" cy="358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"/>
          <p:cNvSpPr/>
          <p:nvPr/>
        </p:nvSpPr>
        <p:spPr>
          <a:xfrm>
            <a:off x="395280" y="3933720"/>
            <a:ext cx="1368360" cy="93528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68360" y="1484280"/>
            <a:ext cx="1295280" cy="4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7"/>
          <p:cNvSpPr/>
          <p:nvPr/>
        </p:nvSpPr>
        <p:spPr>
          <a:xfrm>
            <a:off x="4211640" y="1484280"/>
            <a:ext cx="4103640" cy="158436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95280" y="2637000"/>
            <a:ext cx="136836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9"/>
          <p:cNvSpPr/>
          <p:nvPr/>
        </p:nvSpPr>
        <p:spPr>
          <a:xfrm>
            <a:off x="395280" y="5084640"/>
            <a:ext cx="1368360" cy="93528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0"/>
          <p:cNvSpPr/>
          <p:nvPr/>
        </p:nvSpPr>
        <p:spPr>
          <a:xfrm>
            <a:off x="4500720" y="1700280"/>
            <a:ext cx="3598560" cy="358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естр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>
            <a:off x="4500720" y="2131920"/>
            <a:ext cx="3598560" cy="3603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естр РУ, энерго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2"/>
          <p:cNvSpPr/>
          <p:nvPr/>
        </p:nvSpPr>
        <p:spPr>
          <a:xfrm>
            <a:off x="4284720" y="3213000"/>
            <a:ext cx="4103640" cy="22320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3"/>
          <p:cNvSpPr/>
          <p:nvPr/>
        </p:nvSpPr>
        <p:spPr>
          <a:xfrm>
            <a:off x="4500720" y="2565360"/>
            <a:ext cx="3598560" cy="3603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льное состояние 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4500720" y="3502080"/>
            <a:ext cx="3670200" cy="358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 собы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4500720" y="3933720"/>
            <a:ext cx="3670200" cy="3589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рнал переключений 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4500720" y="4365720"/>
            <a:ext cx="3670200" cy="3585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рнал операций с П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7"/>
          <p:cNvSpPr/>
          <p:nvPr/>
        </p:nvSpPr>
        <p:spPr>
          <a:xfrm>
            <a:off x="4500720" y="4797360"/>
            <a:ext cx="3670200" cy="3589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1763640" y="170028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9"/>
          <p:cNvSpPr/>
          <p:nvPr/>
        </p:nvSpPr>
        <p:spPr>
          <a:xfrm>
            <a:off x="1908000" y="2492280"/>
            <a:ext cx="142920" cy="3745080"/>
          </a:xfrm>
          <a:custGeom>
            <a:avLst/>
            <a:gdLst>
              <a:gd name="textAreaLeft" fmla="*/ 0 w 142920"/>
              <a:gd name="textAreaRight" fmla="*/ 51480 w 142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0"/>
          <p:cNvSpPr/>
          <p:nvPr/>
        </p:nvSpPr>
        <p:spPr>
          <a:xfrm>
            <a:off x="2124000" y="436572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1"/>
          <p:cNvSpPr/>
          <p:nvPr/>
        </p:nvSpPr>
        <p:spPr>
          <a:xfrm rot="16200000">
            <a:off x="3350880" y="21286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е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2"/>
          <p:cNvSpPr/>
          <p:nvPr/>
        </p:nvSpPr>
        <p:spPr>
          <a:xfrm rot="16200000">
            <a:off x="3284640" y="4717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3781800" y="558972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4"/>
          <p:cNvSpPr/>
          <p:nvPr/>
        </p:nvSpPr>
        <p:spPr>
          <a:xfrm>
            <a:off x="2195640" y="2492280"/>
            <a:ext cx="142920" cy="2449440"/>
          </a:xfrm>
          <a:custGeom>
            <a:avLst/>
            <a:gdLst>
              <a:gd name="textAreaLeft" fmla="*/ 0 w 142920"/>
              <a:gd name="textAreaRight" fmla="*/ 51480 w 14292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5"/>
          <p:cNvSpPr/>
          <p:nvPr/>
        </p:nvSpPr>
        <p:spPr>
          <a:xfrm>
            <a:off x="2484360" y="3716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4160" cy="5085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едение мнемосхем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324000" y="1197000"/>
            <a:ext cx="4319280" cy="914400"/>
            <a:chOff x="324000" y="1197000"/>
            <a:chExt cx="4319280" cy="914400"/>
          </a:xfrm>
        </p:grpSpPr>
        <p:sp>
          <p:nvSpPr>
            <p:cNvPr id="109" name="AutoShape 4"/>
            <p:cNvSpPr/>
            <p:nvPr/>
          </p:nvSpPr>
          <p:spPr>
            <a:xfrm>
              <a:off x="324000" y="1197000"/>
              <a:ext cx="4319280" cy="914400"/>
            </a:xfrm>
            <a:prstGeom prst="flowChartProcess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"/>
            <p:cNvSpPr/>
            <p:nvPr/>
          </p:nvSpPr>
          <p:spPr>
            <a:xfrm>
              <a:off x="465480" y="1341720"/>
              <a:ext cx="415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пособ ведения схе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6"/>
          <p:cNvGrpSpPr/>
          <p:nvPr/>
        </p:nvGrpSpPr>
        <p:grpSpPr>
          <a:xfrm>
            <a:off x="539640" y="4365720"/>
            <a:ext cx="3504960" cy="1752480"/>
            <a:chOff x="539640" y="4365720"/>
            <a:chExt cx="3504960" cy="1752480"/>
          </a:xfrm>
        </p:grpSpPr>
        <p:sp>
          <p:nvSpPr>
            <p:cNvPr id="112" name="Text Box 7"/>
            <p:cNvSpPr/>
            <p:nvPr/>
          </p:nvSpPr>
          <p:spPr>
            <a:xfrm>
              <a:off x="691920" y="4670280"/>
              <a:ext cx="3124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операционное ведение схе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>
              <a:off x="539640" y="4365720"/>
              <a:ext cx="3504960" cy="1752480"/>
            </a:xfrm>
            <a:prstGeom prst="flowChartProcess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4859280" y="4365720"/>
            <a:ext cx="3954240" cy="1728720"/>
            <a:chOff x="4859280" y="4365720"/>
            <a:chExt cx="3954240" cy="1728720"/>
          </a:xfrm>
        </p:grpSpPr>
        <p:sp>
          <p:nvSpPr>
            <p:cNvPr id="115" name="Text Box 10"/>
            <p:cNvSpPr/>
            <p:nvPr/>
          </p:nvSpPr>
          <p:spPr>
            <a:xfrm>
              <a:off x="5219640" y="4437360"/>
              <a:ext cx="3384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Фиксация группы действий  по БП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или П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"/>
            <p:cNvSpPr/>
            <p:nvPr/>
          </p:nvSpPr>
          <p:spPr>
            <a:xfrm>
              <a:off x="4859280" y="4365720"/>
              <a:ext cx="3954240" cy="1728720"/>
            </a:xfrm>
            <a:prstGeom prst="flowChartProcess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2"/>
          <p:cNvSpPr/>
          <p:nvPr/>
        </p:nvSpPr>
        <p:spPr>
          <a:xfrm>
            <a:off x="1042920" y="3933720"/>
            <a:ext cx="6480" cy="9064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1692360" y="3933720"/>
            <a:ext cx="3166920" cy="57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4"/>
          <p:cNvGrpSpPr/>
          <p:nvPr/>
        </p:nvGrpSpPr>
        <p:grpSpPr>
          <a:xfrm>
            <a:off x="539640" y="2997360"/>
            <a:ext cx="1944720" cy="936000"/>
            <a:chOff x="539640" y="2997360"/>
            <a:chExt cx="1944720" cy="936000"/>
          </a:xfrm>
        </p:grpSpPr>
        <p:sp>
          <p:nvSpPr>
            <p:cNvPr id="120" name="AutoShape 15"/>
            <p:cNvSpPr/>
            <p:nvPr/>
          </p:nvSpPr>
          <p:spPr>
            <a:xfrm>
              <a:off x="539640" y="2997360"/>
              <a:ext cx="1944720" cy="936000"/>
            </a:xfrm>
            <a:prstGeom prst="flowChartProcess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650880" y="3074760"/>
              <a:ext cx="158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Ручн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7"/>
          <p:cNvGrpSpPr/>
          <p:nvPr/>
        </p:nvGrpSpPr>
        <p:grpSpPr>
          <a:xfrm>
            <a:off x="5364000" y="1197000"/>
            <a:ext cx="3529080" cy="863640"/>
            <a:chOff x="5364000" y="1197000"/>
            <a:chExt cx="3529080" cy="863640"/>
          </a:xfrm>
        </p:grpSpPr>
        <p:sp>
          <p:nvSpPr>
            <p:cNvPr id="123" name="AutoShape 18"/>
            <p:cNvSpPr/>
            <p:nvPr/>
          </p:nvSpPr>
          <p:spPr>
            <a:xfrm>
              <a:off x="5364000" y="1197000"/>
              <a:ext cx="3529080" cy="863640"/>
            </a:xfrm>
            <a:prstGeom prst="flowChartProcess">
              <a:avLst/>
            </a:prstGeom>
            <a:solidFill>
              <a:srgbClr val="cc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9"/>
            <p:cNvSpPr/>
            <p:nvPr/>
          </p:nvSpPr>
          <p:spPr>
            <a:xfrm>
              <a:off x="5594400" y="1341720"/>
              <a:ext cx="322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Автоматически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0"/>
          <p:cNvSpPr/>
          <p:nvPr/>
        </p:nvSpPr>
        <p:spPr>
          <a:xfrm>
            <a:off x="1042920" y="2133720"/>
            <a:ext cx="0" cy="936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4643280" y="1628640"/>
            <a:ext cx="7923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2"/>
          <p:cNvGrpSpPr/>
          <p:nvPr/>
        </p:nvGrpSpPr>
        <p:grpSpPr>
          <a:xfrm>
            <a:off x="5292720" y="2060640"/>
            <a:ext cx="3505320" cy="1885680"/>
            <a:chOff x="5292720" y="2060640"/>
            <a:chExt cx="3505320" cy="1885680"/>
          </a:xfrm>
        </p:grpSpPr>
        <p:sp>
          <p:nvSpPr>
            <p:cNvPr id="128" name="AutoShape 23"/>
            <p:cNvSpPr/>
            <p:nvPr/>
          </p:nvSpPr>
          <p:spPr>
            <a:xfrm>
              <a:off x="5292720" y="2325960"/>
              <a:ext cx="3505320" cy="1608480"/>
            </a:xfrm>
            <a:prstGeom prst="flowChartProcess">
              <a:avLst/>
            </a:prstGeom>
            <a:solidFill>
              <a:srgbClr val="cc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>
              <a:off x="5364000" y="2390040"/>
              <a:ext cx="3276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Отображение на схеме данных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КАДА-систе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5"/>
            <p:cNvSpPr/>
            <p:nvPr/>
          </p:nvSpPr>
          <p:spPr>
            <a:xfrm>
              <a:off x="6732720" y="2060640"/>
              <a:ext cx="0" cy="2653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учное ведение мнемосхем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чное ведение нетелемеханизированного обору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ятие с телемеханического 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метки о повреждениях обору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бота с мобильными элемен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стовый (пробный) режим переключений с включенным режимом проверки корректности пере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2007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Пооперационное ведение мнемосхемы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16360" y="1341360"/>
            <a:ext cx="471672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матическое изменение режима схемы в зависимости от изменения состояния оборуд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 rot="5400000">
            <a:off x="3858840" y="5056200"/>
            <a:ext cx="647640" cy="1066680"/>
          </a:xfrm>
          <a:prstGeom prst="pie">
            <a:avLst/>
          </a:prstGeom>
          <a:solidFill>
            <a:srgbClr val="339933"/>
          </a:solidFill>
          <a:ln cap="sq"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316080" y="1311120"/>
            <a:ext cx="4495680" cy="3938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38862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3454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Установка «мобильных» элемент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27280" y="765000"/>
            <a:ext cx="504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к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носные зазем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ет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метки о работе рем. брига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В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395280" y="907920"/>
          <a:ext cx="367344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7920"/>
                    <a:ext cx="3673440" cy="3225960"/>
                  </a:xfrm>
                  <a:prstGeom prst="rect">
                    <a:avLst/>
                  </a:prstGeom>
                  <a:ln w="25560">
                    <a:solidFill>
                      <a:srgbClr val="99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468360" y="4292640"/>
            <a:ext cx="2349360" cy="14191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43" name="Picture 6" descr=""/>
          <p:cNvPicPr/>
          <p:nvPr/>
        </p:nvPicPr>
        <p:blipFill>
          <a:blip r:embed="rId4"/>
          <a:stretch/>
        </p:blipFill>
        <p:spPr>
          <a:xfrm>
            <a:off x="1835280" y="4941720"/>
            <a:ext cx="2286000" cy="17211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graphicFrame>
        <p:nvGraphicFramePr>
          <p:cNvPr id="144" name="Object 7"/>
          <p:cNvGraphicFramePr/>
          <p:nvPr/>
        </p:nvGraphicFramePr>
        <p:xfrm>
          <a:off x="4356000" y="3357720"/>
          <a:ext cx="4572000" cy="32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3357720"/>
                    <a:ext cx="457200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11640" y="638172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урнал последних событий, ведение главной сх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1"/>
          <p:cNvPicPr/>
          <p:nvPr/>
        </p:nvPicPr>
        <p:blipFill>
          <a:blip r:embed="rId1"/>
          <a:stretch/>
        </p:blipFill>
        <p:spPr>
          <a:xfrm>
            <a:off x="468360" y="333360"/>
            <a:ext cx="79200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2:51:17Z</dcterms:created>
  <dc:creator>Grig</dc:creator>
  <dc:description/>
  <dc:language>en-US</dc:language>
  <cp:lastModifiedBy>Света Буланова</cp:lastModifiedBy>
  <dcterms:modified xsi:type="dcterms:W3CDTF">2007-10-26T07:47:44Z</dcterms:modified>
  <cp:revision>68</cp:revision>
  <dc:subject/>
  <dc:title>ЭЛЕКТРОННЫЙ ЖУРНАЛ</dc:title>
</cp:coreProperties>
</file>