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C4B-F5C2-43E2-AA5B-6430BF12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6FE-2FCD-4E34-8DB2-C943CB71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56D-7336-4E43-8BDF-2DDAAAFF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1C1-E058-4AFC-AD47-CD25E73F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6609-3082-46B9-87AD-E54CA6FC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4488-4F19-4053-9E38-C8293BCA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F74F-252D-4618-9E68-8787696D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D810-CD79-4B47-8F39-BAAE30D8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F680-2884-483A-8B8F-FEF90096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2A8A-575D-4457-8FC2-28C60269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A6F3-CAEC-4BE2-8A4F-24218837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5FB-64A4-4271-8325-8804F912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0D02-7125-45DB-AC71-1ED8FC2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BD6B-D2B9-4CED-BC89-4AC9680C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DE28-AB6A-47FE-85C4-CDA6E16F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695B-143F-4A98-AE12-0903497E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5376-F79E-41A5-A41E-9063FBB9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2DBD-6A97-4565-A9E2-5CB26BC1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E5DF7-C6A6-4920-B5A1-2508DECF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62F4-BE8F-4B5C-BFAA-515D27F4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184AC-E536-4996-AD23-77975033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B30C-E567-4D40-BB4F-45774AD9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851-66A0-4136-AC07-652F21D6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9CF0-ADFC-45EB-9E87-15033A6C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792A-0BF5-40C9-BEE9-AE2E8F46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B611-3CDB-460F-BE66-759D8D7D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4B7E7-C7EB-4BA4-A601-A41C1C1B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6FFE-9589-446C-8A1F-1F974E8C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8F6B-51B0-406D-8DCD-2E4EF419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6499-F25F-4FBE-A6B0-4FD9E67F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592-F558-4E7A-98C9-FB94F1C4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60F-F273-434F-BD2F-21C9609E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9C5-3A2F-494A-9F2D-B6067C43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852-F1BB-4452-9064-FB0C7926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3FA-B8B3-4E01-97E1-C5BAF78F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729-2837-4320-ABA8-F97352B0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9838-ECF1-4224-BB91-8D8AD8C18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5E65-679D-44B7-AE2A-44B4B89BC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74C6-018A-4639-8960-BB4CC27C39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64000" y="1341000"/>
            <a:ext cx="518472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33"/>
                </a:solidFill>
                <a:latin typeface="Arial"/>
              </a:rPr>
              <a:t>Альбом схе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modus1"/>
          <p:cNvPicPr/>
          <p:nvPr/>
        </p:nvPicPr>
        <p:blipFill>
          <a:blip r:embed="rId1"/>
          <a:stretch/>
        </p:blipFill>
        <p:spPr>
          <a:xfrm>
            <a:off x="179280" y="333360"/>
            <a:ext cx="3592800" cy="6257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3614760" y="1700280"/>
            <a:ext cx="520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39640" y="602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166760" y="611352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5580000" y="58770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омпания Модус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292720" y="6237360"/>
            <a:ext cx="33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рограммное обеспечение для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modus2"/>
          <p:cNvPicPr/>
          <p:nvPr/>
        </p:nvPicPr>
        <p:blipFill>
          <a:blip r:embed="rId2"/>
          <a:stretch/>
        </p:blipFill>
        <p:spPr>
          <a:xfrm>
            <a:off x="3780000" y="333360"/>
            <a:ext cx="48243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7777"/>
          <p:cNvPicPr/>
          <p:nvPr/>
        </p:nvPicPr>
        <p:blipFill>
          <a:blip r:embed="rId1"/>
          <a:stretch/>
        </p:blipFill>
        <p:spPr>
          <a:xfrm>
            <a:off x="179280" y="549360"/>
            <a:ext cx="8713800" cy="6281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-27360"/>
            <a:ext cx="83851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рганизация переход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2484360" y="1773360"/>
            <a:ext cx="3024360" cy="43164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7"/>
          <p:cNvSpPr/>
          <p:nvPr/>
        </p:nvSpPr>
        <p:spPr>
          <a:xfrm>
            <a:off x="1619280" y="2060640"/>
            <a:ext cx="5329080" cy="345600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8"/>
          <p:cNvSpPr/>
          <p:nvPr/>
        </p:nvSpPr>
        <p:spPr>
          <a:xfrm>
            <a:off x="1619280" y="4640400"/>
            <a:ext cx="6481800" cy="9493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7777"/>
          <p:cNvPicPr/>
          <p:nvPr/>
        </p:nvPicPr>
        <p:blipFill>
          <a:blip r:embed="rId1"/>
          <a:stretch/>
        </p:blipFill>
        <p:spPr>
          <a:xfrm>
            <a:off x="395280" y="906480"/>
            <a:ext cx="8210520" cy="5951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Arial Black"/>
              </a:rPr>
              <a:t>Переход с подробной схемы ТП на схему кабельных линий ТП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1908000" y="3068640"/>
            <a:ext cx="5616720" cy="282096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ot"/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ства организации переходов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Графический редакто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к средство организации статических гиперссы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Редактор прави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к средство организации динамических гиперссы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72316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татические гиперссыл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258120" cy="6391080"/>
          </a:xfrm>
          <a:prstGeom prst="rect">
            <a:avLst/>
          </a:prstGeom>
          <a:ln w="0">
            <a:noFill/>
          </a:ln>
        </p:spPr>
      </p:pic>
      <p:sp>
        <p:nvSpPr>
          <p:cNvPr id="178" name="Oval 7"/>
          <p:cNvSpPr/>
          <p:nvPr/>
        </p:nvSpPr>
        <p:spPr>
          <a:xfrm>
            <a:off x="0" y="765000"/>
            <a:ext cx="1187280" cy="2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2"/>
          <a:stretch/>
        </p:blipFill>
        <p:spPr>
          <a:xfrm>
            <a:off x="4610160" y="4030560"/>
            <a:ext cx="4390920" cy="3076560"/>
          </a:xfrm>
          <a:prstGeom prst="rect">
            <a:avLst/>
          </a:prstGeom>
          <a:ln w="0">
            <a:noFill/>
          </a:ln>
        </p:spPr>
      </p:pic>
      <p:sp>
        <p:nvSpPr>
          <p:cNvPr id="180" name="Oval 10"/>
          <p:cNvSpPr/>
          <p:nvPr/>
        </p:nvSpPr>
        <p:spPr>
          <a:xfrm>
            <a:off x="6443640" y="5445000"/>
            <a:ext cx="194472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6084720" y="3644640"/>
            <a:ext cx="86364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3492360" y="3429000"/>
            <a:ext cx="11876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татические гиперссыл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089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тическая гиперссылка – это параметр элемента сх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жественные гипер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перссылки внутри одного документа, на другой документ, на произвольный документ (не схем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анятся гиперссылки внутри файла со схе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перссылки чувствительны к изменению местоположения файла со схемой (относительные и абсолютные ссыл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инамические гиперссыл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360920" cy="5324760"/>
          </a:xfrm>
          <a:prstGeom prst="rect">
            <a:avLst/>
          </a:prstGeom>
          <a:ln w="0">
            <a:noFill/>
          </a:ln>
        </p:spPr>
      </p:pic>
      <p:sp>
        <p:nvSpPr>
          <p:cNvPr id="187" name="Oval 5"/>
          <p:cNvSpPr/>
          <p:nvPr/>
        </p:nvSpPr>
        <p:spPr>
          <a:xfrm>
            <a:off x="611280" y="620640"/>
            <a:ext cx="1908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6283440"/>
            <a:ext cx="81360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намические гиперссылки - это правила, записанные в файле 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XR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0" y="1514520"/>
            <a:ext cx="7361280" cy="5343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4859640" cy="3517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3916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инамические гиперссыл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4932360" y="4149720"/>
            <a:ext cx="9349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0" y="1341360"/>
            <a:ext cx="1908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9391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инамические гиперссыл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0" y="549360"/>
            <a:ext cx="7113600" cy="657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2076480" cy="790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5867280" y="3068640"/>
            <a:ext cx="4859280" cy="3517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4"/>
          <a:stretch/>
        </p:blipFill>
        <p:spPr>
          <a:xfrm>
            <a:off x="7248600" y="692280"/>
            <a:ext cx="1895400" cy="904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9" name="Text Box 9"/>
          <p:cNvSpPr/>
          <p:nvPr/>
        </p:nvSpPr>
        <p:spPr>
          <a:xfrm>
            <a:off x="5210640" y="2349360"/>
            <a:ext cx="426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C:\M_Src\Projects\Пятигорск\SDE\RUB\tp39.vl.s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3780000" y="1125360"/>
            <a:ext cx="3456000" cy="15829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2"/>
          <p:cNvSpPr/>
          <p:nvPr/>
        </p:nvSpPr>
        <p:spPr>
          <a:xfrm>
            <a:off x="7236000" y="1628640"/>
            <a:ext cx="649080" cy="7923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7164360" y="2565360"/>
            <a:ext cx="936720" cy="35276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2627280" y="3429000"/>
            <a:ext cx="151308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3995640" y="4221000"/>
            <a:ext cx="50508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93916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инамические гиперссыл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4543200" cy="3571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4284720" y="836640"/>
            <a:ext cx="4695840" cy="3524400"/>
          </a:xfrm>
          <a:prstGeom prst="rect">
            <a:avLst/>
          </a:prstGeom>
          <a:ln w="0">
            <a:noFill/>
          </a:ln>
        </p:spPr>
      </p:pic>
      <p:sp>
        <p:nvSpPr>
          <p:cNvPr id="208" name="Oval 8"/>
          <p:cNvSpPr/>
          <p:nvPr/>
        </p:nvSpPr>
        <p:spPr>
          <a:xfrm>
            <a:off x="900000" y="5229360"/>
            <a:ext cx="3240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5651640" y="2565360"/>
            <a:ext cx="324000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альбом схем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0071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Хранилищ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 файлами схем (папка со схема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бное 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программное обеспеч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осмотра и навигации по хранилищу схем с возможностью поиска объекта на схеме по критерию. Переход на сопроводительные докуме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бом схем – основа построения диспетчерской информационной системы комплекса Мод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067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редства подготовки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льбома схе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186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ческий редактор. Вспомогательные программы редактирования и настройки отобра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актор правил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актор проектов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спомогательные (не обязательные) сре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067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редства просмотра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льбома схе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417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смотрщик сх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тегратор сх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испетчер Э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-295200" y="-90360"/>
            <a:ext cx="9734400" cy="70387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50920" y="5516280"/>
            <a:ext cx="5545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редства контроля версий файл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Oval 4"/>
          <p:cNvSpPr/>
          <p:nvPr/>
        </p:nvSpPr>
        <p:spPr>
          <a:xfrm>
            <a:off x="250920" y="4149720"/>
            <a:ext cx="86508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1979640" y="3645000"/>
            <a:ext cx="324000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5580000" y="3933720"/>
            <a:ext cx="86508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 flipH="1">
            <a:off x="3492000" y="4221000"/>
            <a:ext cx="2303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348000" y="5084640"/>
            <a:ext cx="71640" cy="1513080"/>
          </a:xfrm>
          <a:custGeom>
            <a:avLst/>
            <a:gdLst>
              <a:gd name="textAreaLeft" fmla="*/ 0 w 71640"/>
              <a:gd name="textAreaRight" fmla="*/ 25920 w 7164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Oval 33"/>
          <p:cNvSpPr/>
          <p:nvPr/>
        </p:nvSpPr>
        <p:spPr>
          <a:xfrm>
            <a:off x="5437080" y="5445000"/>
            <a:ext cx="12956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2"/>
          <p:cNvSpPr/>
          <p:nvPr/>
        </p:nvSpPr>
        <p:spPr>
          <a:xfrm>
            <a:off x="4910040" y="5445000"/>
            <a:ext cx="12956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1"/>
          <p:cNvSpPr/>
          <p:nvPr/>
        </p:nvSpPr>
        <p:spPr>
          <a:xfrm>
            <a:off x="4381560" y="5445000"/>
            <a:ext cx="129528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0"/>
          <p:cNvSpPr/>
          <p:nvPr/>
        </p:nvSpPr>
        <p:spPr>
          <a:xfrm>
            <a:off x="3852720" y="5445000"/>
            <a:ext cx="12956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3325680" y="5445000"/>
            <a:ext cx="12956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8"/>
          <p:cNvSpPr/>
          <p:nvPr/>
        </p:nvSpPr>
        <p:spPr>
          <a:xfrm>
            <a:off x="2797200" y="5445000"/>
            <a:ext cx="129528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843280" y="2708280"/>
            <a:ext cx="1944720" cy="122400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ил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826920" y="4221000"/>
            <a:ext cx="7345440" cy="936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смо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едение альбома схем (ведение состоя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611280" y="1052640"/>
            <a:ext cx="1800000" cy="165564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сий фай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6156360" y="1197000"/>
            <a:ext cx="2519280" cy="934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дак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ьбома сх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6372360" y="2492280"/>
            <a:ext cx="129528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828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имер организации сетевой работы с альбомом схе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Oval 16"/>
          <p:cNvSpPr/>
          <p:nvPr/>
        </p:nvSpPr>
        <p:spPr>
          <a:xfrm>
            <a:off x="7524720" y="2492280"/>
            <a:ext cx="129528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 rot="19060200">
            <a:off x="4285440" y="2204280"/>
            <a:ext cx="315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министративная процеду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верждения 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6948360" y="2133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8101080" y="2133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 flipH="1">
            <a:off x="2410920" y="1628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"/>
          <p:cNvSpPr/>
          <p:nvPr/>
        </p:nvSpPr>
        <p:spPr>
          <a:xfrm flipH="1">
            <a:off x="4788000" y="2133720"/>
            <a:ext cx="1512720" cy="136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3"/>
          <p:cNvSpPr/>
          <p:nvPr/>
        </p:nvSpPr>
        <p:spPr>
          <a:xfrm>
            <a:off x="2268360" y="5445000"/>
            <a:ext cx="12956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4"/>
          <p:cNvSpPr/>
          <p:nvPr/>
        </p:nvSpPr>
        <p:spPr>
          <a:xfrm>
            <a:off x="2843280" y="5157720"/>
            <a:ext cx="0" cy="2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3924360" y="3933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6"/>
          <p:cNvSpPr/>
          <p:nvPr/>
        </p:nvSpPr>
        <p:spPr>
          <a:xfrm>
            <a:off x="3419640" y="5157720"/>
            <a:ext cx="0" cy="2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7"/>
          <p:cNvSpPr/>
          <p:nvPr/>
        </p:nvSpPr>
        <p:spPr>
          <a:xfrm>
            <a:off x="3995640" y="5157720"/>
            <a:ext cx="0" cy="2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8"/>
          <p:cNvSpPr/>
          <p:nvPr/>
        </p:nvSpPr>
        <p:spPr>
          <a:xfrm>
            <a:off x="4500720" y="5157720"/>
            <a:ext cx="0" cy="2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9"/>
          <p:cNvSpPr/>
          <p:nvPr/>
        </p:nvSpPr>
        <p:spPr>
          <a:xfrm>
            <a:off x="5003640" y="5157720"/>
            <a:ext cx="0" cy="2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0"/>
          <p:cNvSpPr/>
          <p:nvPr/>
        </p:nvSpPr>
        <p:spPr>
          <a:xfrm>
            <a:off x="5508720" y="5157720"/>
            <a:ext cx="0" cy="2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2"/>
          <p:cNvSpPr/>
          <p:nvPr/>
        </p:nvSpPr>
        <p:spPr>
          <a:xfrm>
            <a:off x="6084720" y="5157720"/>
            <a:ext cx="0" cy="2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имер организации хранилища сх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пки с подробными  и вспомогательными схем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ы стан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ы Р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ы Т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ы КЛ и В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ая сх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ая сх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а-план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140360" y="2924280"/>
            <a:ext cx="4859280" cy="3517920"/>
          </a:xfrm>
          <a:prstGeom prst="rect">
            <a:avLst/>
          </a:prstGeom>
          <a:ln w="0">
            <a:noFill/>
          </a:ln>
        </p:spPr>
      </p:pic>
      <p:sp>
        <p:nvSpPr>
          <p:cNvPr id="152" name="Line 9"/>
          <p:cNvSpPr/>
          <p:nvPr/>
        </p:nvSpPr>
        <p:spPr>
          <a:xfrm>
            <a:off x="3492360" y="3789360"/>
            <a:ext cx="2735280" cy="7920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44440"/>
            <a:ext cx="83739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иды альбомов сх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ьбом однолинейных схем электрических соединений. Виды представлений альбом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бом принципиальных сх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бом оперативных сх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бом нормальных сх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бом схем с диспетчерскими именова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ьбом схем РЗи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ьбом общего назначения (смешанные альбомы, привязка к произвольным документам, вывод справочной информ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068084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582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рагмент принципиальной схемы подстанц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-396720" y="-103320"/>
            <a:ext cx="9875520" cy="69613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4582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рагмент оперативной схемы подстанц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40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4582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рагмент схемы нормального режим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26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582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рагмент схемы с диспетчерскими наименованиям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иды схе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18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ические сх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ая схема (схема щи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ы заме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робные схемы РП, ТП, ПСТ, 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опорные схемы, схемы КЛ, В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кеты энергобъек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ые сх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ы (ТП, РП, местнос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ы телемеха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ловые сх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ы РЗи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4:52:40Z</dcterms:created>
  <dc:creator>SV</dc:creator>
  <dc:description/>
  <dc:language>en-US</dc:language>
  <cp:lastModifiedBy>Света Буланова</cp:lastModifiedBy>
  <dcterms:modified xsi:type="dcterms:W3CDTF">2007-10-26T07:49:44Z</dcterms:modified>
  <cp:revision>61</cp:revision>
  <dc:subject/>
  <dc:title>Слайд 1</dc:title>
</cp:coreProperties>
</file>