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86B4-315D-46D7-8AD7-2F373D24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F35-9C45-4BEB-8C01-FE18FC25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3A3-5203-4578-89C5-58B0A962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FDB-6DF7-40AA-974E-E14F6683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42CD-7FC6-41D9-ABB7-21435B34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9FB8-DCC6-44D9-B1E4-4B11F890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1F09-69BB-445D-9463-80B05909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F6F6-CB62-4477-AE06-30804BE4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7CC4-B56B-4295-84EB-94690229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38B0-B2B1-4B81-856B-4311FBA9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C33C-894A-4BE7-B34C-7B86537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BD5-4F01-452E-A9DA-7CD2A284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44B5-B20A-4D9A-8CBD-77E138C2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DDE1-0DA8-4B85-89F0-37BDD4D2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FCE1-6A47-42F1-9F65-89020628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2FBB-65EF-4CB4-AE0B-085353D4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F9D9-97CA-45C3-93A9-4BEDDBF0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33199-C488-4130-AB23-3A787D22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3DB9-3842-4906-955B-62DB7DAB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0AB9-08A7-4017-B03B-D4F3F1BC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95081-1AE3-40AD-9728-7FC32943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18EE-D161-492D-AEEA-90D2FBDF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3F8-5198-4865-9190-8FBC85DA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9572-FD41-4AF6-89F9-95E81B4C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CC0C-0E8C-4EC9-84FA-E1F70EF0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60A1-8474-43E3-A453-6A4F0E65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7B6A-3989-485F-B7D2-AD24389B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EF5B-1A84-4D3A-B5C2-753B77FA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2826-28BD-424E-A919-5F6F40C5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6E6F-F94D-4D88-B4DD-B053C9C2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0CA-1933-4AAC-9E40-01531FA8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7A8-0A26-4568-84F5-3C1DA349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0E7-A142-4E67-BAC9-94124CEC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68C-7B6D-4850-8ABC-14AB846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905-BFA4-4D45-BF9E-09155247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8C3-24B3-493A-A452-7D208835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EF7B-D29B-4808-85F3-3F054AC94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2017-E556-4DAC-9930-21C11AD1E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A174-FE0D-4F28-8B7A-398CF59889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modus1"/>
          <p:cNvPicPr/>
          <p:nvPr/>
        </p:nvPicPr>
        <p:blipFill>
          <a:blip r:embed="rId1"/>
          <a:stretch/>
        </p:blipFill>
        <p:spPr>
          <a:xfrm>
            <a:off x="179280" y="333360"/>
            <a:ext cx="3592800" cy="6257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614760" y="1700280"/>
            <a:ext cx="520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39640" y="602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166760" y="611352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580000" y="58770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омпания Модус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92720" y="6237360"/>
            <a:ext cx="33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рограммное обеспечение для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modus2"/>
          <p:cNvPicPr/>
          <p:nvPr/>
        </p:nvPicPr>
        <p:blipFill>
          <a:blip r:embed="rId2"/>
          <a:stretch/>
        </p:blipFill>
        <p:spPr>
          <a:xfrm>
            <a:off x="3780000" y="333360"/>
            <a:ext cx="4824360" cy="852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95640" y="1341360"/>
            <a:ext cx="66974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9933"/>
                </a:solidFill>
                <a:latin typeface="Arial"/>
              </a:rPr>
              <a:t>Особенности подготовки схем для диспетчерской  информационной систе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войства файл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0" y="907920"/>
            <a:ext cx="5727600" cy="595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5438880" y="1989000"/>
            <a:ext cx="3705120" cy="4438800"/>
          </a:xfrm>
          <a:prstGeom prst="rect">
            <a:avLst/>
          </a:prstGeom>
          <a:ln w="0">
            <a:noFill/>
          </a:ln>
        </p:spPr>
      </p:pic>
      <p:sp>
        <p:nvSpPr>
          <p:cNvPr id="150" name="Oval 10"/>
          <p:cNvSpPr/>
          <p:nvPr/>
        </p:nvSpPr>
        <p:spPr>
          <a:xfrm>
            <a:off x="250920" y="2637000"/>
            <a:ext cx="14414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 flipV="1">
            <a:off x="1692360" y="2204640"/>
            <a:ext cx="3959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опология электрических схе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16000" y="895320"/>
            <a:ext cx="6954840" cy="5962680"/>
          </a:xfrm>
          <a:prstGeom prst="rect">
            <a:avLst/>
          </a:prstGeom>
          <a:ln w="0">
            <a:noFill/>
          </a:ln>
        </p:spPr>
      </p:pic>
      <p:sp>
        <p:nvSpPr>
          <p:cNvPr id="154" name="Oval 5"/>
          <p:cNvSpPr/>
          <p:nvPr/>
        </p:nvSpPr>
        <p:spPr>
          <a:xfrm>
            <a:off x="7308720" y="6597720"/>
            <a:ext cx="358920" cy="26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6443640" y="6597720"/>
            <a:ext cx="792360" cy="26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4716360" y="3500280"/>
            <a:ext cx="2016360" cy="3097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33051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781960" cy="4686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3851280" y="2171880"/>
            <a:ext cx="5686560" cy="4686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Идентификация страниц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3419640" y="4076640"/>
            <a:ext cx="2885760" cy="365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4"/>
          <a:stretch/>
        </p:blipFill>
        <p:spPr>
          <a:xfrm>
            <a:off x="468360" y="3429000"/>
            <a:ext cx="2886120" cy="3657600"/>
          </a:xfrm>
          <a:prstGeom prst="rect">
            <a:avLst/>
          </a:prstGeom>
          <a:ln w="0">
            <a:noFill/>
          </a:ln>
        </p:spPr>
      </p:pic>
      <p:sp>
        <p:nvSpPr>
          <p:cNvPr id="163" name="Freeform 8"/>
          <p:cNvSpPr/>
          <p:nvPr/>
        </p:nvSpPr>
        <p:spPr>
          <a:xfrm>
            <a:off x="2771640" y="2144880"/>
            <a:ext cx="1079640" cy="42048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2195640" y="5300640"/>
            <a:ext cx="2376360" cy="9241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539640" y="5084640"/>
            <a:ext cx="2519640" cy="28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3635280" y="5950080"/>
            <a:ext cx="2519280" cy="287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826920" y="4076640"/>
            <a:ext cx="2519640" cy="287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3492360" y="4797360"/>
            <a:ext cx="2519640" cy="287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дентификация контейнер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5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дентификация элемен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116000" y="895320"/>
            <a:ext cx="6954840" cy="5962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3305160" cy="2210040"/>
          </a:xfrm>
          <a:prstGeom prst="rect">
            <a:avLst/>
          </a:prstGeom>
          <a:ln w="0">
            <a:noFill/>
          </a:ln>
        </p:spPr>
      </p:pic>
      <p:sp>
        <p:nvSpPr>
          <p:cNvPr id="174" name="Oval 7"/>
          <p:cNvSpPr/>
          <p:nvPr/>
        </p:nvSpPr>
        <p:spPr>
          <a:xfrm>
            <a:off x="324000" y="3860640"/>
            <a:ext cx="3456000" cy="50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539640" y="3429000"/>
            <a:ext cx="3095640" cy="287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50752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Нормальное состояние КА и нормальный токоразде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237520" cy="531504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700360" y="2349360"/>
            <a:ext cx="25923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4448160" y="3500280"/>
            <a:ext cx="4695840" cy="3524400"/>
          </a:xfrm>
          <a:prstGeom prst="rect">
            <a:avLst/>
          </a:prstGeom>
          <a:ln w="0">
            <a:noFill/>
          </a:ln>
        </p:spPr>
      </p:pic>
      <p:sp>
        <p:nvSpPr>
          <p:cNvPr id="180" name="Freeform 7"/>
          <p:cNvSpPr/>
          <p:nvPr/>
        </p:nvSpPr>
        <p:spPr>
          <a:xfrm>
            <a:off x="1835280" y="3645000"/>
            <a:ext cx="6697440" cy="112860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86788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собенности идентификации вспомогательного оборудо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648400" cy="4686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5580000" y="5084640"/>
            <a:ext cx="2905200" cy="1419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3"/>
          <a:stretch/>
        </p:blipFill>
        <p:spPr>
          <a:xfrm>
            <a:off x="826920" y="5157720"/>
            <a:ext cx="3257640" cy="1419120"/>
          </a:xfrm>
          <a:prstGeom prst="rect">
            <a:avLst/>
          </a:prstGeom>
          <a:ln w="0">
            <a:noFill/>
          </a:ln>
        </p:spPr>
      </p:pic>
      <p:sp>
        <p:nvSpPr>
          <p:cNvPr id="185" name="Oval 10"/>
          <p:cNvSpPr/>
          <p:nvPr/>
        </p:nvSpPr>
        <p:spPr>
          <a:xfrm>
            <a:off x="755640" y="5445000"/>
            <a:ext cx="2232000" cy="1447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1"/>
          <p:cNvSpPr/>
          <p:nvPr/>
        </p:nvSpPr>
        <p:spPr>
          <a:xfrm>
            <a:off x="5292720" y="5373720"/>
            <a:ext cx="2232000" cy="144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372360" y="4292640"/>
            <a:ext cx="1295280" cy="1081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H="1">
            <a:off x="3851280" y="4292640"/>
            <a:ext cx="2233440" cy="115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7"/>
          <p:cNvSpPr/>
          <p:nvPr/>
        </p:nvSpPr>
        <p:spPr>
          <a:xfrm>
            <a:off x="1692360" y="5300640"/>
            <a:ext cx="223200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8"/>
          <p:cNvSpPr/>
          <p:nvPr/>
        </p:nvSpPr>
        <p:spPr>
          <a:xfrm>
            <a:off x="4572000" y="4149720"/>
            <a:ext cx="223200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6300720" y="5229360"/>
            <a:ext cx="223200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3"/>
          <p:cNvSpPr/>
          <p:nvPr/>
        </p:nvSpPr>
        <p:spPr>
          <a:xfrm>
            <a:off x="755640" y="5516640"/>
            <a:ext cx="1655640" cy="863640"/>
          </a:xfrm>
          <a:prstGeom prst="roundRect">
            <a:avLst>
              <a:gd name="adj" fmla="val 16667"/>
            </a:avLst>
          </a:prstGeom>
          <a:solidFill>
            <a:srgbClr val="00cc00">
              <a:alpha val="12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4"/>
          <p:cNvSpPr/>
          <p:nvPr/>
        </p:nvSpPr>
        <p:spPr>
          <a:xfrm>
            <a:off x="5508720" y="5516640"/>
            <a:ext cx="1655640" cy="863640"/>
          </a:xfrm>
          <a:prstGeom prst="roundRect">
            <a:avLst>
              <a:gd name="adj" fmla="val 16667"/>
            </a:avLst>
          </a:prstGeom>
          <a:solidFill>
            <a:srgbClr val="00cc00">
              <a:alpha val="12000"/>
            </a:srgbClr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755640" y="5157720"/>
            <a:ext cx="3311640" cy="142920"/>
          </a:xfrm>
          <a:prstGeom prst="roundRect">
            <a:avLst>
              <a:gd name="adj" fmla="val 16667"/>
            </a:avLst>
          </a:prstGeom>
          <a:solidFill>
            <a:srgbClr val="3366ff">
              <a:alpha val="12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3708360" y="4005360"/>
            <a:ext cx="2879640" cy="144360"/>
          </a:xfrm>
          <a:prstGeom prst="roundRect">
            <a:avLst>
              <a:gd name="adj" fmla="val 16667"/>
            </a:avLst>
          </a:prstGeom>
          <a:solidFill>
            <a:srgbClr val="3366ff">
              <a:alpha val="12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8"/>
          <p:cNvSpPr/>
          <p:nvPr/>
        </p:nvSpPr>
        <p:spPr>
          <a:xfrm>
            <a:off x="5580000" y="5084640"/>
            <a:ext cx="2448000" cy="144720"/>
          </a:xfrm>
          <a:prstGeom prst="roundRect">
            <a:avLst>
              <a:gd name="adj" fmla="val 16667"/>
            </a:avLst>
          </a:prstGeom>
          <a:solidFill>
            <a:srgbClr val="3366ff">
              <a:alpha val="12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05120" y="115560"/>
            <a:ext cx="939636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сновные и дополнительные свой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4716360" y="620640"/>
            <a:ext cx="4143600" cy="3009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5667480" cy="46861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7"/>
          <p:cNvSpPr/>
          <p:nvPr/>
        </p:nvSpPr>
        <p:spPr>
          <a:xfrm>
            <a:off x="2556000" y="4221000"/>
            <a:ext cx="3024000" cy="100836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3"/>
          <a:stretch/>
        </p:blipFill>
        <p:spPr>
          <a:xfrm>
            <a:off x="6012000" y="4005360"/>
            <a:ext cx="2867040" cy="24289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9"/>
          <p:cNvSpPr/>
          <p:nvPr/>
        </p:nvSpPr>
        <p:spPr>
          <a:xfrm>
            <a:off x="6012000" y="4724280"/>
            <a:ext cx="2881080" cy="108108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 flipV="1">
            <a:off x="3851280" y="5733720"/>
            <a:ext cx="2233440" cy="358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 flipV="1">
            <a:off x="1692360" y="4724280"/>
            <a:ext cx="863640" cy="719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4932360" y="981000"/>
            <a:ext cx="2592360" cy="719280"/>
          </a:xfrm>
          <a:prstGeom prst="roundRect">
            <a:avLst>
              <a:gd name="adj" fmla="val 16667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4:52:40Z</dcterms:created>
  <dc:creator>SV</dc:creator>
  <dc:description/>
  <dc:language>en-US</dc:language>
  <cp:lastModifiedBy>Света Буланова</cp:lastModifiedBy>
  <dcterms:modified xsi:type="dcterms:W3CDTF">2007-10-26T07:50:01Z</dcterms:modified>
  <cp:revision>44</cp:revision>
  <dc:subject/>
  <dc:title>Слайд 1</dc:title>
</cp:coreProperties>
</file>