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6CF-6A49-4EAA-9B6A-5FDE774D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049-F104-4EC7-9F45-1660BE73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98A-E683-4239-9153-90EE63DC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E6B-77FC-4A6E-B1EF-BC7580EE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146D-8EC8-4A76-BCA9-EECAFB45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22D9-9120-43DC-8CFB-2FC38BC5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72CA-5F4E-4524-B3D0-0A7F1E3A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91DA-F3D0-4B2F-A76F-17790FF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939F-49CE-4336-8D71-3F693A24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CE50-497F-48E3-BDA5-2E7DC4E4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DD8F-62A0-4E0E-B0FF-C1F0DC2D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22F-27B7-41DE-ADDC-5EF745D2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CAC5-3706-457F-8DD0-74AA627B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F726-C489-41F1-B47D-F27774D0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0CEA-D9CC-49F6-9421-7BE938D1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6F4C-C13A-40A9-941A-43A1A82C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E09A-C594-40FA-9A00-C71136F7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E871-FFB6-446E-9387-FCD782A5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8820-DA48-4749-8120-14961AAE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F47E-A409-4EF1-80F4-4790E2B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E18E-BB3C-4999-9AAD-2734E84F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6768-9F1B-4D3F-8CFD-14FFCDCB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02E-346D-40A6-A89A-E05A58FE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6F62-FF9B-4659-9D25-B7BE00F1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2305-864B-4475-9453-CBAC35B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8DFC-5DA9-497F-A5FE-741DAE9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9616-B766-4745-A4FD-745B3AA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B6A5-2138-4094-A628-CEBE4E53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58E0-1323-406E-BEBE-36C5B296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6E28F-45AE-41FF-98FF-C1040D3A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3E0-E8B3-49E1-8D61-F0C09FAF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552-6B06-4FCA-A2A8-BCA1CDA2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676-7213-4FBC-9700-ED3C63A9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F9E-000C-4E5A-B3A3-C60973EC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C41-223E-4DB5-8C08-00245E56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500-441A-4633-9225-02E3F47F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5D30-1810-4B98-BC53-5DA6D3393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C629-6890-4BF3-B80B-E99369324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AA17-7A3D-45D1-ABA0-CABC397EC2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modus1"/>
          <p:cNvPicPr/>
          <p:nvPr/>
        </p:nvPicPr>
        <p:blipFill>
          <a:blip r:embed="rId1"/>
          <a:stretch/>
        </p:blipFill>
        <p:spPr>
          <a:xfrm>
            <a:off x="179280" y="333360"/>
            <a:ext cx="3592800" cy="6257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614760" y="1700280"/>
            <a:ext cx="520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39640" y="602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166760" y="611352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580000" y="58770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ания Модус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92720" y="6237360"/>
            <a:ext cx="33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ограммное обеспечение для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modus2"/>
          <p:cNvPicPr/>
          <p:nvPr/>
        </p:nvPicPr>
        <p:blipFill>
          <a:blip r:embed="rId2"/>
          <a:stretch/>
        </p:blipFill>
        <p:spPr>
          <a:xfrm>
            <a:off x="3780000" y="333360"/>
            <a:ext cx="4824360" cy="852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7320" y="1341000"/>
            <a:ext cx="607212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Привязка схем к системам картографии. Планы мес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лан местности в формате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DE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 схемы КЛ и В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Рисунок 4" descr="Карта Пятигорск (фрагмент).png"/>
          <p:cNvPicPr/>
          <p:nvPr/>
        </p:nvPicPr>
        <p:blipFill>
          <a:blip r:embed="rId1"/>
          <a:stretch/>
        </p:blipFill>
        <p:spPr>
          <a:xfrm>
            <a:off x="-376200" y="1285920"/>
            <a:ext cx="9520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хема участка 10к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Содержимое 3" descr="Схема SDE с инсп с-в.png"/>
          <p:cNvPicPr/>
          <p:nvPr/>
        </p:nvPicPr>
        <p:blipFill>
          <a:blip r:embed="rId1"/>
          <a:stretch/>
        </p:blipFill>
        <p:spPr>
          <a:xfrm>
            <a:off x="-285840" y="1428840"/>
            <a:ext cx="9622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38512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ивязка схемы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DE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к карт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Содержимое 3" descr="Привязка схемы к карте.pn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сходные данные – бумажные поопорные схем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328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82972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бъект карты привязан к схеме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DE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4" name="Рисунок 3" descr="Карта МОЭСК с данными по КТП.png"/>
          <p:cNvPicPr/>
          <p:nvPr/>
        </p:nvPicPr>
        <p:blipFill>
          <a:blip r:embed="rId1"/>
          <a:stretch/>
        </p:blipFill>
        <p:spPr>
          <a:xfrm>
            <a:off x="0" y="928800"/>
            <a:ext cx="104932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385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хема ВЛ для ТП-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Рисунок 3" descr="ТП2_ВЛ.png"/>
          <p:cNvPicPr/>
          <p:nvPr/>
        </p:nvPicPr>
        <p:blipFill>
          <a:blip r:embed="rId1"/>
          <a:stretch/>
        </p:blipFill>
        <p:spPr>
          <a:xfrm>
            <a:off x="0" y="571680"/>
            <a:ext cx="9174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385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хема КЛ для ТП-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Рисунок 4" descr="ТП2_КЛ.pn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хема ВЛ на плане местност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542880"/>
            <a:ext cx="96012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оопорная схема фидера 0,4к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Рисунок 3" descr="Схема Фидера 10кВ.png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385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хема фидера 10к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Рисунок 4" descr="Фидер 10кВ.png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38512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тсканированный план участка как подложка для схемы В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Содержимое 3" descr="Картинка в качестве подложки SDE.png"/>
          <p:cNvPicPr/>
          <p:nvPr/>
        </p:nvPicPr>
        <p:blipFill>
          <a:blip r:embed="rId1"/>
          <a:stretch/>
        </p:blipFill>
        <p:spPr>
          <a:xfrm>
            <a:off x="-1049400" y="1500120"/>
            <a:ext cx="10193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хема ВЛ на плане местност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Содержимое 3" descr="Поопорная схема  с планом участка.png"/>
          <p:cNvPicPr/>
          <p:nvPr/>
        </p:nvPicPr>
        <p:blipFill>
          <a:blip r:embed="rId1"/>
          <a:stretch/>
        </p:blipFill>
        <p:spPr>
          <a:xfrm>
            <a:off x="285840" y="1357200"/>
            <a:ext cx="859320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Содержимое 3" descr="Слой опоры для плана участка.png"/>
          <p:cNvPicPr/>
          <p:nvPr/>
        </p:nvPicPr>
        <p:blipFill>
          <a:blip r:embed="rId1"/>
          <a:stretch/>
        </p:blipFill>
        <p:spPr>
          <a:xfrm>
            <a:off x="500040" y="2428920"/>
            <a:ext cx="7846920" cy="419112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3" descr="УД для плана SDE.png"/>
          <p:cNvPicPr/>
          <p:nvPr/>
        </p:nvPicPr>
        <p:blipFill>
          <a:blip r:embed="rId2"/>
          <a:stretch/>
        </p:blipFill>
        <p:spPr>
          <a:xfrm>
            <a:off x="5214960" y="1357200"/>
            <a:ext cx="3381480" cy="2476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хема ВЛ с геометрией плана учатска. Использование УД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4:52:40Z</dcterms:created>
  <dc:creator>SV</dc:creator>
  <dc:description/>
  <dc:language>en-US</dc:language>
  <cp:lastModifiedBy>Света Буланова</cp:lastModifiedBy>
  <dcterms:modified xsi:type="dcterms:W3CDTF">2007-10-29T08:59:41Z</dcterms:modified>
  <cp:revision>83</cp:revision>
  <dc:subject/>
  <dc:title>Слайд 1</dc:title>
</cp:coreProperties>
</file>