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22.wmf" ContentType="image/x-wmf"/>
  <Override PartName="/ppt/media/image10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6.png" ContentType="image/png"/>
  <Override PartName="/ppt/media/image14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D29D-A0C4-4EEF-8338-D68EBDD21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D350-6FD4-422C-9C3C-02C0A490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82BD-77EC-4A08-94FC-0EEBCF9AD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BC66-AE59-4F2B-81D3-EDA5546EF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7EEF-1B9C-41E8-A180-A74148497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E2DA-C5A1-4348-9240-FBE417F9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D8CD-F34A-4727-8DD8-5A653F47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F07D-D237-49A4-9D9A-A25425BE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446E-CA63-4205-B2E5-BE30E7D6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19FD-D335-498E-9D90-057D8570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60E6A-9556-46B4-915A-5B96CE53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4A43-369B-49B0-AA4C-6106EA76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90DA-7D3F-455C-ADBE-6A3C096E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13DA-71D8-4708-AF4D-D98877E7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A5C0-BD4D-43B3-80C5-347AB21D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C70B-6627-4CDE-A281-6A5AE71C2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226A-A67D-4977-A593-A802D0D48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535A-456B-4DEF-B4F3-73171181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B95E-C773-4A82-BF5E-41D50D86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97E9-8B5B-40DF-9D73-440A4C98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1616-4AC0-4A53-BA75-F4502E2C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EE4C-265D-4FC8-9526-AE55B08B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F7D0-7267-4B41-A883-4F091716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6676-8027-42D8-8CE4-8E754C81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4136-324F-4A16-8CC6-C697D372062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D96D-474F-4C04-B94A-A56DBFAE40E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3592800" cy="62578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39640" y="6021360"/>
            <a:ext cx="36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66760" y="6113520"/>
            <a:ext cx="354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780000" y="333360"/>
            <a:ext cx="4824360" cy="852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708360" y="1844640"/>
            <a:ext cx="518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33"/>
                </a:solidFill>
                <a:latin typeface="Arial"/>
              </a:rPr>
              <a:t>Программно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33"/>
                </a:solidFill>
                <a:latin typeface="Arial"/>
              </a:rPr>
              <a:t>обеспечение для предприятий электроэнергет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16360" y="5300640"/>
            <a:ext cx="2519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e6b"/>
                </a:solidFill>
                <a:latin typeface="Garamond"/>
              </a:rPr>
              <a:t>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e6b"/>
                </a:solidFill>
                <a:latin typeface="Garamond"/>
              </a:rPr>
              <a:t>Компания Моду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e6b"/>
                </a:solidFill>
                <a:uFillTx/>
                <a:latin typeface="Garamond"/>
              </a:rPr>
              <a:t>www.swman.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rcRect l="23622" t="24114" r="18086" b="11319"/>
          <a:stretch/>
        </p:blipFill>
        <p:spPr>
          <a:xfrm>
            <a:off x="1763640" y="765000"/>
            <a:ext cx="6935760" cy="576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Расстановка значений пользовательских свойств на схемах согласно списку телесигналов из тренажёра Феникс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rcRect l="0" t="0" r="51305" b="60536"/>
          <a:stretch/>
        </p:blipFill>
        <p:spPr>
          <a:xfrm>
            <a:off x="324000" y="1844640"/>
            <a:ext cx="5111640" cy="3510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59" name=""/>
          <p:cNvSpPr/>
          <p:nvPr/>
        </p:nvSpPr>
        <p:spPr>
          <a:xfrm flipH="1" flipV="1">
            <a:off x="6516360" y="4653000"/>
            <a:ext cx="431640" cy="43344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Создание упражнений и курса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rcRect l="0" t="0" r="22063" b="29371"/>
          <a:stretch/>
        </p:blipFill>
        <p:spPr>
          <a:xfrm>
            <a:off x="1187280" y="549360"/>
            <a:ext cx="7855200" cy="59007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rcRect l="0" t="1588" r="0" b="0"/>
          <a:stretch/>
        </p:blipFill>
        <p:spPr>
          <a:xfrm>
            <a:off x="179280" y="1806480"/>
            <a:ext cx="59054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Архитектура</a:t>
            </a:r>
            <a:br>
              <a:rPr sz="4000"/>
            </a:br>
            <a:r>
              <a:rPr b="1" lang="en-US" sz="2000" spc="-1" strike="noStrike">
                <a:solidFill>
                  <a:srgbClr val="b9efee"/>
                </a:solidFill>
                <a:latin typeface="Garamond"/>
              </a:rPr>
              <a:t>взаимодействия по ЛВС</a:t>
            </a: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4" name=""/>
          <p:cNvSpPr/>
          <p:nvPr/>
        </p:nvSpPr>
        <p:spPr>
          <a:xfrm>
            <a:off x="5292720" y="1484280"/>
            <a:ext cx="3600360" cy="396072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98360" y="148428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Компьютер Феник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1484280"/>
            <a:ext cx="3527280" cy="410544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240" y="1484280"/>
            <a:ext cx="23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Компьютер Моду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2133720"/>
            <a:ext cx="3095640" cy="14396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Тренажёр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ОД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3789360"/>
            <a:ext cx="309564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Интегратор МОД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6920" y="2708280"/>
            <a:ext cx="2089440" cy="649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аги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Тренажёр Феникс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26920" y="4437000"/>
            <a:ext cx="2089440" cy="649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аги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Тренажёр Феникс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51640" y="2060640"/>
            <a:ext cx="3024000" cy="1081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Тренажёр Феник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51640" y="4292640"/>
            <a:ext cx="3025800" cy="100800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Феникс-Интерфей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6165720"/>
            <a:ext cx="8496360" cy="557280"/>
          </a:xfrm>
          <a:prstGeom prst="leftRightArrow">
            <a:avLst>
              <a:gd name="adj1" fmla="val 65241"/>
              <a:gd name="adj2" fmla="val 51879"/>
            </a:avLst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ЛВС (взаимодействие по Микрософт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CO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27640" y="3141720"/>
            <a:ext cx="2016360" cy="1150920"/>
          </a:xfrm>
          <a:prstGeom prst="upDownArrow">
            <a:avLst>
              <a:gd name="adj1" fmla="val 50000"/>
              <a:gd name="adj2" fmla="val 1990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ротоко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Феник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27640" y="5300640"/>
            <a:ext cx="2016360" cy="9367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ротоко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Моду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95640" y="2852640"/>
            <a:ext cx="792360" cy="3424320"/>
          </a:xfrm>
          <a:prstGeom prst="downArrow">
            <a:avLst>
              <a:gd name="adj1" fmla="val 58315"/>
              <a:gd name="adj2" fmla="val 25250"/>
            </a:avLst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4365720"/>
            <a:ext cx="1224000" cy="863640"/>
          </a:xfrm>
          <a:prstGeom prst="leftArrow">
            <a:avLst>
              <a:gd name="adj1" fmla="val 50000"/>
              <a:gd name="adj2" fmla="val 35431"/>
            </a:avLst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16360" y="2637000"/>
            <a:ext cx="1224000" cy="863280"/>
          </a:xfrm>
          <a:prstGeom prst="leftArrow">
            <a:avLst>
              <a:gd name="adj1" fmla="val 50000"/>
              <a:gd name="adj2" fmla="val 35446"/>
            </a:avLst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3777120" y="3575880"/>
            <a:ext cx="178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ротокол Моду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Архитектура</a:t>
            </a:r>
            <a:br>
              <a:rPr sz="4400"/>
            </a:b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взаимодействия на одном компьютере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1557360"/>
            <a:ext cx="8351640" cy="424800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51360" y="155736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Компьют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26920" y="2133720"/>
            <a:ext cx="3024360" cy="1081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Тренажёр Феник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6920" y="4365720"/>
            <a:ext cx="3025800" cy="100800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Феникс-Интерфей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03280" y="3214800"/>
            <a:ext cx="2016360" cy="1150920"/>
          </a:xfrm>
          <a:prstGeom prst="upDownArrow">
            <a:avLst>
              <a:gd name="adj1" fmla="val 50000"/>
              <a:gd name="adj2" fmla="val 1990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ротоко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Феник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24360" y="2133720"/>
            <a:ext cx="2808360" cy="32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Тренажёр МОД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227640" y="4365720"/>
            <a:ext cx="2089440" cy="884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лагин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«Тренажёр Феникс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24360" y="4221000"/>
            <a:ext cx="2232000" cy="1295640"/>
          </a:xfrm>
          <a:prstGeom prst="leftRightArrow">
            <a:avLst>
              <a:gd name="adj1" fmla="val 50000"/>
              <a:gd name="adj2" fmla="val 34294"/>
            </a:avLst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ротоко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Моду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Настройка взаимодейств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астройка тренажёра Феник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Уточнение каталога обмена данным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Включение сетевого взаимодействия и установка количества интерфейсов диспетчер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астройка контрагента «Феникс-Интерфейс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Назначение каталога обмена данными и номера клиен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Регистрация контрагента в систем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Добавление плагина «Тренажёр Феникс» в Тренажёре МОДУС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Настройка плагин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роверка корректности настройк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Настройка тренажёра Феникс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rcRect l="16060" t="18520" r="3011" b="7123"/>
          <a:stretch/>
        </p:blipFill>
        <p:spPr>
          <a:xfrm>
            <a:off x="826920" y="1844640"/>
            <a:ext cx="7417080" cy="48024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468360" y="98100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Уточнение каталога обмена данны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8360" y="18900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Настройка тренажёра Феник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981000"/>
            <a:ext cx="799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ключение сетевого взаимодействия и установка количества интерфейсов диспетче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276720" y="2421000"/>
            <a:ext cx="2879640" cy="1785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84360" y="4869000"/>
            <a:ext cx="799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Нужно проследить, чтобы была проставлена галочка «Работа в сети» и Количество подключенных интерфейсов диспетчера было увеличено на единицу (для контрагента «Феникс-Интерфейс»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Настройка контрагента </a:t>
            </a:r>
            <a:br>
              <a:rPr sz="3600"/>
            </a:b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«Феникс-Интерфейс»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14599" t="47755" r="0" b="0"/>
          <a:stretch/>
        </p:blipFill>
        <p:spPr>
          <a:xfrm>
            <a:off x="5219640" y="2276640"/>
            <a:ext cx="2465280" cy="7934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4500720" y="3789360"/>
            <a:ext cx="3979800" cy="2583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57200" y="1600200"/>
            <a:ext cx="3538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осле запуска контрагента «Феникс-интерфейс»  доступ к его настройкам можно получить через значок звездочки в правом нижнем углу экр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Нужно убедиться, что номер клиента меньше или равен количеству интерфейсов диспетчера тренажёра Феникс, и что каталоги обмена данными у тренажёров Феникс и Модус указывают на один и тот же катало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Регистрация контрагента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«Феникс-Интерфейс» в системе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ля регистрации контрагента в системе нужно в диалоге его настройки нажать на кнопку «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gServer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нопка «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RegServer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» производит удаление сведений о регистрации контрагента в систем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859280" y="2492280"/>
            <a:ext cx="410544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Добавление плагина «Тренажёр Феникс» в тренажёр МОДУС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692360" y="1413000"/>
            <a:ext cx="576108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9898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Сопряжение тренажера МОДУС по оперативным переключениям с режимной частью </a:t>
            </a: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“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ФЕНИКС</a:t>
            </a: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”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Настройка плагина в тренажёре МОДУС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799308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Проверка корректности настройк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осле завершения всех настроек нужно перезапустить тренажёр МОДУ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Если всё было сделано правильно, то в правом нижнем углу экрана появится значок звёздочки, означающий, что контрагент «Феникс-Интерфейс» успешно запущен и тренажёр МОДУС готов для взаимодействия с тренажёром Феник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203640" y="5445000"/>
            <a:ext cx="2798640" cy="8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Последовательно запуска тренировк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Запуск тренажёра Феник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ыбор проекта и запуск модели в тренажёре Феник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Запуск тренажёра МОДУ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ыбор и запуск задания на выполн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Ход тренировк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5116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сле запуска тренировки на схеме тренажёра МОДУС сразу же отображается текущий режи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3635280" y="1266840"/>
            <a:ext cx="5400720" cy="53769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 flipH="1">
            <a:off x="4427280" y="2708280"/>
            <a:ext cx="360360" cy="50328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724000" y="2708280"/>
            <a:ext cx="360360" cy="50328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Ход тренировк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10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оздействие на коммутационные аппараты не сразу приводит к смене режима схем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635280" y="1268280"/>
            <a:ext cx="5400720" cy="537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Ход трениров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28640"/>
            <a:ext cx="310680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ужно 5-10 секунд для обработки переключения в тренажёре Феникс и обновления данных режи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3635280" y="1268280"/>
            <a:ext cx="5329440" cy="52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Ход трениров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1628640"/>
            <a:ext cx="310680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сле обновления данных режима изменения отображаются на схеме тренажёра МОДУ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635280" y="1268280"/>
            <a:ext cx="5400720" cy="53769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 flipH="1">
            <a:off x="4427280" y="2708280"/>
            <a:ext cx="360360" cy="50328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5724000" y="2708280"/>
            <a:ext cx="360360" cy="50328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Организация тренажёрного класса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ндивидуальные трениров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Каждый пользователь работает со своим экземпляром как тренажёра Феникс так и тренажёра МОДУ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етевые тренировк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есколько пользователей работают с одним общим экземпляром тренажёра Феникс и с индивидуальными экземплярами тренажёра МОДУС, при этом пользователи осуществляют действия на разных подстанция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Индивидуальная тренировк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4" name=""/>
          <p:cNvSpPr/>
          <p:nvPr/>
        </p:nvSpPr>
        <p:spPr>
          <a:xfrm>
            <a:off x="468360" y="1557360"/>
            <a:ext cx="8351640" cy="424800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1360" y="155736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Компьют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26920" y="2133720"/>
            <a:ext cx="2376720" cy="3240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Тренажёр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Феник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940360" y="2133720"/>
            <a:ext cx="2592360" cy="32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Тренажё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МОД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443640" y="3213000"/>
            <a:ext cx="1657440" cy="1441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дстанция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03640" y="3645000"/>
            <a:ext cx="2736720" cy="1152360"/>
          </a:xfrm>
          <a:prstGeom prst="rightArrow">
            <a:avLst>
              <a:gd name="adj1" fmla="val 50000"/>
              <a:gd name="adj2" fmla="val 5937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03640" y="2565360"/>
            <a:ext cx="2736720" cy="1150920"/>
          </a:xfrm>
          <a:prstGeom prst="leftArrow">
            <a:avLst>
              <a:gd name="adj1" fmla="val 50000"/>
              <a:gd name="adj2" fmla="val 59446"/>
            </a:avLst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оложение 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76720" y="386064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Результаты расчёта режи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Сетевая тренировк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3" name=""/>
          <p:cNvSpPr/>
          <p:nvPr/>
        </p:nvSpPr>
        <p:spPr>
          <a:xfrm>
            <a:off x="324000" y="1557360"/>
            <a:ext cx="2950920" cy="489600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5280" y="155736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Компьютер Феник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2133720"/>
            <a:ext cx="2376720" cy="3959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Тренажёр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Феник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724360" y="2133720"/>
            <a:ext cx="3024360" cy="14396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Тренажёр МОД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227640" y="2708280"/>
            <a:ext cx="1800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дстанция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986200" y="2133720"/>
            <a:ext cx="2736720" cy="647640"/>
          </a:xfrm>
          <a:prstGeom prst="leftArrow">
            <a:avLst>
              <a:gd name="adj1" fmla="val 50000"/>
              <a:gd name="adj2" fmla="val 105642"/>
            </a:avLst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оложение 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508720" y="1628640"/>
            <a:ext cx="3384360" cy="216072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508720" y="1628640"/>
            <a:ext cx="26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Компьютер Модус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508720" y="3933720"/>
            <a:ext cx="3384360" cy="251964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08720" y="39337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Компьютер Модус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24360" y="4508640"/>
            <a:ext cx="2951280" cy="14396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Тренажёр МОД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99280" y="5083200"/>
            <a:ext cx="180180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дстанция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986200" y="2781360"/>
            <a:ext cx="2736720" cy="647640"/>
          </a:xfrm>
          <a:prstGeom prst="rightArrow">
            <a:avLst>
              <a:gd name="adj1" fmla="val 50000"/>
              <a:gd name="adj2" fmla="val 10564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Реж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86200" y="4510080"/>
            <a:ext cx="2736720" cy="647640"/>
          </a:xfrm>
          <a:prstGeom prst="leftArrow">
            <a:avLst>
              <a:gd name="adj1" fmla="val 50000"/>
              <a:gd name="adj2" fmla="val 105642"/>
            </a:avLst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оложение 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986200" y="5157720"/>
            <a:ext cx="2736720" cy="647640"/>
          </a:xfrm>
          <a:prstGeom prst="rightArrow">
            <a:avLst>
              <a:gd name="adj1" fmla="val 50000"/>
              <a:gd name="adj2" fmla="val 10564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Реж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Структура взаимодейств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1773360"/>
            <a:ext cx="2950920" cy="3528720"/>
          </a:xfrm>
          <a:prstGeom prst="flowChartMultidocumen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Heavy"/>
              </a:rPr>
              <a:t>Тренаж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Heavy"/>
              </a:rPr>
              <a:t>МОД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1916280"/>
            <a:ext cx="2663640" cy="2808000"/>
          </a:xfrm>
          <a:custGeom>
            <a:avLst/>
            <a:gdLst>
              <a:gd name="textAreaLeft" fmla="*/ 129960 w 2663640"/>
              <a:gd name="textAreaRight" fmla="*/ 2533680 w 2663640"/>
              <a:gd name="textAreaTop" fmla="*/ 129960 h 2808000"/>
              <a:gd name="textAreaBottom" fmla="*/ 2678040 h 2808000"/>
            </a:gdLst>
            <a:ahLst/>
            <a:rect l="textAreaLeft" t="textAreaTop" r="textAreaRight" b="textAreaBottom"/>
            <a:pathLst>
              <a:path w="21600" h="22770">
                <a:moveTo>
                  <a:pt x="3600" y="0"/>
                </a:moveTo>
                <a:arcTo wR="3600" hR="3600" stAng="16200000" swAng="-5400000"/>
                <a:lnTo>
                  <a:pt x="0" y="19170"/>
                </a:lnTo>
                <a:arcTo wR="3600" hR="3600" stAng="10800000" swAng="-5400000"/>
                <a:lnTo>
                  <a:pt x="18000" y="2277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Heavy"/>
              </a:rPr>
              <a:t>Тренаж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Heavy"/>
              </a:rPr>
              <a:t>Феник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35280" y="2421000"/>
            <a:ext cx="24494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635280" y="3789360"/>
            <a:ext cx="24494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15640" y="184464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Состояние 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51280" y="3068640"/>
            <a:ext cx="194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Результат расчета режи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Исходные данны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одготовленные проект ЭС в тренажёре Феникс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Готовый комплект схем в формате Модус с выверенной электрической моделью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равильно проставленные диспетчерские наименования сигналов ТС и Т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3500280"/>
            <a:ext cx="3168720" cy="26654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Heavy"/>
              </a:rPr>
              <a:t>Тренаж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Heavy"/>
              </a:rPr>
              <a:t>Феник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19640" y="3500280"/>
            <a:ext cx="3240000" cy="26654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Heavy"/>
              </a:rPr>
              <a:t>Тренаж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Heavy"/>
              </a:rPr>
              <a:t>Мод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00000" y="5013360"/>
            <a:ext cx="2592360" cy="792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Heavy"/>
              </a:rPr>
              <a:t>Диспетчерские наимен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80000" y="5013360"/>
            <a:ext cx="2592360" cy="792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Heavy"/>
              </a:rPr>
              <a:t>Диспетчерские наимен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64000" y="5516640"/>
            <a:ext cx="1871640" cy="0"/>
          </a:xfrm>
          <a:prstGeom prst="line">
            <a:avLst/>
          </a:prstGeom>
          <a:ln w="54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95640" y="4149720"/>
            <a:ext cx="1008000" cy="1008000"/>
          </a:xfrm>
          <a:prstGeom prst="plus">
            <a:avLst>
              <a:gd name="adj" fmla="val 42954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Подготовка данных для тренажёра Модус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олучение списка ТС и ТИ из тренажёра Феник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обавление в схемы формата Модус пользовательских свойств для хранения номеров сигналов ТС и ТИ для соответствующих элемент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оздание упражнений и курса упражнений для работы со схемами Модус в тренажёр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Получение списка ТС и ТИ из тренажёра Феникс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1600200"/>
            <a:ext cx="821844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Запустить тренажёр Феникс и загрузить подготовленный проект Э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ыбрать пункт меню «изменение схемы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Для получения номеров сигналов ТИ нужно нажать кнопку «Шины», «ТИ», «Список ТИ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Для получения номеров сигналов ТС нужно нажать кнопку «Выключатели», «ТС», «Список ТС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ажать на кнопку «Печать» - список номеров ТС или ТИ и соответствующих им диспетчерских наименований будет сохранён в указанном текстовом файл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79280" y="81000"/>
            <a:ext cx="8785440" cy="66438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 flipH="1">
            <a:off x="539280" y="2421000"/>
            <a:ext cx="360360" cy="50328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003280" y="2349360"/>
            <a:ext cx="360360" cy="50328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050560" y="3789360"/>
            <a:ext cx="360360" cy="50328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292360" y="6021360"/>
            <a:ext cx="360360" cy="50328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5640" y="2492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19640" y="242100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68360" y="386064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08720" y="609300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Работа со списком номеров телесигналов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10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575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Garamond"/>
              </a:rPr>
              <a:t>Для удобства работы со</a:t>
            </a: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Garamond"/>
              </a:rPr>
              <a:t>списком номеров ТС или ТИ</a:t>
            </a: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Garamond"/>
              </a:rPr>
              <a:t>нужно текстовый файл</a:t>
            </a: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Garamond"/>
              </a:rPr>
              <a:t>импортировать в </a:t>
            </a: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MS Excel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575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Garamond"/>
              </a:rPr>
              <a:t>В </a:t>
            </a: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Excel</a:t>
            </a:r>
            <a:r>
              <a:rPr b="0" lang="ru-RU" sz="2300" spc="-1" strike="noStrike">
                <a:solidFill>
                  <a:srgbClr val="ffffff"/>
                </a:solidFill>
                <a:latin typeface="Garamond"/>
              </a:rPr>
              <a:t> можно применять автофильтры для выделения телесигналов, относящихся к какой-то одной подстанции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rcRect l="0" t="0" r="47983" b="34449"/>
          <a:stretch/>
        </p:blipFill>
        <p:spPr>
          <a:xfrm>
            <a:off x="4140360" y="1484280"/>
            <a:ext cx="4824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Добавление пользовательских свойств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rcRect l="23991" t="23622" r="23991" b="23622"/>
          <a:stretch/>
        </p:blipFill>
        <p:spPr>
          <a:xfrm>
            <a:off x="1692360" y="836640"/>
            <a:ext cx="5976720" cy="4545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11280" y="5589720"/>
            <a:ext cx="813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Для элементов, отображающих ТС и ТИ добавляем пользовательские свойства Феникс_ТС_ОДУ и Феникс_ТИ_ОДУ соответствен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1:48:30Z</dcterms:created>
  <dc:creator>SV</dc:creator>
  <dc:description/>
  <dc:language>en-US</dc:language>
  <cp:lastModifiedBy>SV</cp:lastModifiedBy>
  <dcterms:modified xsi:type="dcterms:W3CDTF">2006-06-13T07:16:46Z</dcterms:modified>
  <cp:revision>54</cp:revision>
  <dc:subject/>
  <dc:title>Слайд 1</dc:title>
</cp:coreProperties>
</file>