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WAYNE.WAV" ContentType="audio/x-wav"/>
  <Override PartName="/ppt/media/image6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E3B-4F12-4BFF-92B2-B42312B8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6E4-C6C3-430D-93B9-3FFD586E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9F4B-0BFB-4356-9C69-1C837631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EB7-6920-454C-BE12-F70842AF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1B3E-E567-4F35-BC85-86B48DEC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3105-1F72-4C90-ACE9-759E5E05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80B2-BC24-457F-B12A-535AFF58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4592-B2F1-49CD-9C95-52FD7D50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A7F5-DFA9-4876-98D0-6698FE1A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A17E-E07A-4491-806F-0692E8E9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96AF-9B36-461C-93A5-E43502C2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2B7-DA8E-4966-A866-AD237871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9660-28D3-46F4-BE93-27E16E6B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6404-C30E-4DA7-BD9E-BC5F7DD0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8C37-F519-4155-AF5F-3FCEEB0C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E09B-6F0C-4E9B-95CE-4BA6CDF2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050F-1428-4DF0-B667-7BCD08A4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03EB2-8F7A-441B-8518-303F2F74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5CF1B-53A5-40D7-A6B7-7122C091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EB9CD-1F63-4C95-B875-6015D7B9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5525C-1F76-41B8-984D-85CF7A71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852C9-9975-4C44-8A07-6BCF4BD1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FCC-0CFB-4C13-9DFD-A6B80575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94ED3-27EA-4D3A-8B31-0AAD1D9F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AA013-05C2-47EC-9631-DA0FFA29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8A121-52D0-46D2-897E-A34C5922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39D34-BBD8-4C7B-AAC4-4B42C064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EF781-EF56-4300-A32A-1A453F15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45160-CD87-4294-9F42-08FA391F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6FC2A-5724-4414-9CB4-65CEFBCB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D73-7684-4810-9842-63FDF9F2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39A-25B2-44AC-B7C6-AD9D2E8C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456-686F-4AD6-B168-F003E28F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226-14A7-4104-85EB-614ADF23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5AFD-2C5D-47A1-A607-2DA6A4EB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BF69-525A-4C99-86F0-4F0BDBFD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AAAC-65F9-424F-84AD-4435B48AF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FE84-7ECE-43B5-8019-A6C7568251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5CE3-679A-4856-AF63-EE46D86CB7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WAYNE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64000" y="1341000"/>
            <a:ext cx="5184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33"/>
                </a:solidFill>
                <a:latin typeface="Arial"/>
              </a:rPr>
              <a:t>Интеграция </a:t>
            </a:r>
            <a:br>
              <a:rPr sz="6000"/>
            </a:br>
            <a:r>
              <a:rPr b="0" lang="en-US" sz="6000" spc="-1" strike="noStrike">
                <a:solidFill>
                  <a:srgbClr val="339933"/>
                </a:solidFill>
                <a:latin typeface="Arial"/>
              </a:rPr>
              <a:t>данны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592800" cy="6257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614760" y="1700280"/>
            <a:ext cx="5205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602136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66760" y="6113520"/>
            <a:ext cx="354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80000" y="587700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Компания Модус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6237360"/>
            <a:ext cx="339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Программное обеспечение для э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48243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AY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Привязка схем к СКАДА-системе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468360"/>
            <a:ext cx="914400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нятие интеграц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55028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онтексте доклада под интеграцией данных понимаем обмен стандартизованными данны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ные СУБД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ные телемеха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OP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Способы интеграции данных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83059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встроенных средст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встроенной БД НС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Плагино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гин навигационных деревье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ADO, ODB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гин справочных данных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DO, ODB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гин связи с О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специализированных средст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гин сопряжения с режимом Феник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гины пользовате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12891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1. Расширение функциональности базовых приложений комплекса Мод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522936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2. Встраивание схемной графики Модус в приложение сторонних разработч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дключение БД НС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060280"/>
            <a:ext cx="7263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ключение встроенной в комплекс Модус БД Н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ключение пользовательской Б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строенная БД НС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516880" cy="2372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905280" y="1609560"/>
            <a:ext cx="5238720" cy="5248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516720" y="2421000"/>
            <a:ext cx="2303280" cy="3600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573360"/>
            <a:ext cx="2973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исок доступных марок оборудования формируется по типу обрудования и классу напря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марке оборудования из БД НСИ извлекаются характери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3860640"/>
            <a:ext cx="503280" cy="72072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3429000"/>
            <a:ext cx="503280" cy="72072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4869000"/>
            <a:ext cx="502920" cy="720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4076640"/>
            <a:ext cx="5977080" cy="2521080"/>
          </a:xfrm>
          <a:custGeom>
            <a:avLst/>
            <a:gdLst/>
            <a:ahLst/>
            <a:rect l="l" t="t" r="r" b="b"/>
            <a:pathLst>
              <a:path w="3720" h="1762">
                <a:moveTo>
                  <a:pt x="0" y="1044"/>
                </a:moveTo>
                <a:cubicBezTo>
                  <a:pt x="370" y="1403"/>
                  <a:pt x="741" y="1762"/>
                  <a:pt x="1361" y="1588"/>
                </a:cubicBezTo>
                <a:cubicBezTo>
                  <a:pt x="1981" y="1414"/>
                  <a:pt x="3327" y="265"/>
                  <a:pt x="372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5877000"/>
            <a:ext cx="2592360" cy="36036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1484280"/>
            <a:ext cx="1584360" cy="4465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92360" y="-1440"/>
            <a:ext cx="7451640" cy="68594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5029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Интеграция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с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БД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анные по абонента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6480360" cy="4321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427640" y="2708280"/>
            <a:ext cx="4464000" cy="3630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12000" y="1341360"/>
            <a:ext cx="865080" cy="1366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7121520" cy="52675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ображение данны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2205000"/>
            <a:ext cx="1296720" cy="1008000"/>
          </a:xfrm>
          <a:prstGeom prst="wedgeRectCallout">
            <a:avLst>
              <a:gd name="adj1" fmla="val 116708"/>
              <a:gd name="adj2" fmla="val 7078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нные из БД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S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4941720"/>
            <a:ext cx="1297080" cy="1008360"/>
          </a:xfrm>
          <a:prstGeom prst="wedgeRectCallout">
            <a:avLst>
              <a:gd name="adj1" fmla="val 133967"/>
              <a:gd name="adj2" fmla="val 3856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нные из БД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S Accs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ивязка к СУБД по ключа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474040" cy="3538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680" y="5734080"/>
            <a:ext cx="886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Технология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LinksXeme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позволяет привязать имеющуюся у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пользователя БД БЕЗ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ПРОГРАММИ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4:52:40Z</dcterms:created>
  <dc:creator>SV</dc:creator>
  <dc:description/>
  <dc:language>en-US</dc:language>
  <cp:lastModifiedBy>SV</cp:lastModifiedBy>
  <dcterms:modified xsi:type="dcterms:W3CDTF">2007-04-13T15:20:42Z</dcterms:modified>
  <cp:revision>44</cp:revision>
  <dc:subject/>
  <dc:title>Слайд 1</dc:title>
</cp:coreProperties>
</file>