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9CB-CB1B-4F01-B93F-3996AD64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BA2-2BED-4094-BA63-204B3A06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EBF-340D-46DC-8048-143D1DED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0DF-12A6-4F07-B013-0FC3FA98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F6D-D8AB-40C7-8D8B-995F604A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D7D-78CC-4009-9217-673DD13E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86F-1F83-4E62-AAE0-5E3F3CDD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A9F-3820-4A8E-9E52-A150BEB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E60-9992-4076-B184-885DFD6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789-9A88-4A6E-8693-B4537CF0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97D-8476-448B-A6F3-F83E49AD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929-1C5B-47C8-BBDD-767A970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B762-3A74-4426-A987-D7B13A16D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ема взаимодействия МОДУС с ЦПП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00" y="4653000"/>
            <a:ext cx="2171520" cy="1942920"/>
            <a:chOff x="324000" y="4653000"/>
            <a:chExt cx="2171520" cy="1942920"/>
          </a:xfrm>
        </p:grpSpPr>
        <p:sp>
          <p:nvSpPr>
            <p:cNvPr id="43" name=""/>
            <p:cNvSpPr/>
            <p:nvPr/>
          </p:nvSpPr>
          <p:spPr>
            <a:xfrm>
              <a:off x="324000" y="4653000"/>
              <a:ext cx="2171520" cy="19429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ЦППС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(+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C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ервер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erver"/>
            <p:cNvSpPr/>
            <p:nvPr/>
          </p:nvSpPr>
          <p:spPr>
            <a:xfrm>
              <a:off x="444600" y="5224320"/>
              <a:ext cx="723600" cy="11872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8200" y="5192640"/>
              <a:ext cx="1326960" cy="140328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 Конфигурация тегов ОРС серве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 Взаимодействие со щит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227640" y="4581360"/>
            <a:ext cx="2417760" cy="1943280"/>
            <a:chOff x="6227640" y="4581360"/>
            <a:chExt cx="2417760" cy="1943280"/>
          </a:xfrm>
        </p:grpSpPr>
        <p:sp>
          <p:nvSpPr>
            <p:cNvPr id="47" name=""/>
            <p:cNvSpPr/>
            <p:nvPr/>
          </p:nvSpPr>
          <p:spPr>
            <a:xfrm>
              <a:off x="6227640" y="4581360"/>
              <a:ext cx="2417760" cy="194328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 МОДУ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(+ СКАДА-агент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У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erver"/>
            <p:cNvSpPr/>
            <p:nvPr/>
          </p:nvSpPr>
          <p:spPr>
            <a:xfrm>
              <a:off x="6361920" y="5152680"/>
              <a:ext cx="805680" cy="118764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67600" y="5121000"/>
              <a:ext cx="1477440" cy="1403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 Сервер БД ЭЖ Моду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 Взаимодействие с ОРС сервером (прием, обработка и передача данных телемеханики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508720" y="692280"/>
            <a:ext cx="32004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петчерский Щ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10800000">
            <a:off x="6799320" y="4066200"/>
            <a:ext cx="1590480" cy="3906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лиенты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ОДУ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odem"/>
          <p:cNvSpPr/>
          <p:nvPr/>
        </p:nvSpPr>
        <p:spPr>
          <a:xfrm>
            <a:off x="1187280" y="2708280"/>
            <a:ext cx="1143000" cy="42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2133720"/>
            <a:ext cx="72720" cy="574560"/>
          </a:xfrm>
          <a:prstGeom prst="upDownArrow">
            <a:avLst>
              <a:gd name="adj1" fmla="val 50000"/>
              <a:gd name="adj2" fmla="val 1572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"/>
          <p:cNvSpPr/>
          <p:nvPr/>
        </p:nvSpPr>
        <p:spPr>
          <a:xfrm>
            <a:off x="179280" y="692280"/>
            <a:ext cx="2057400" cy="17715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6680" y="1023840"/>
            <a:ext cx="1685880" cy="10969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мм. Клемник, оборудование телемеханики на ПС, РП, КТП и п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здесь подробно не расматриваетс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3141720"/>
            <a:ext cx="71280" cy="1584360"/>
          </a:xfrm>
          <a:prstGeom prst="upDownArrow">
            <a:avLst>
              <a:gd name="adj1" fmla="val 50000"/>
              <a:gd name="adj2" fmla="val 4424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9640" y="3789360"/>
            <a:ext cx="1339920" cy="870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учение данных от телемеханики и передача ТУ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85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3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9843200">
            <a:off x="1979640" y="1772280"/>
            <a:ext cx="3693960" cy="114120"/>
          </a:xfrm>
          <a:prstGeom prst="rightArrow">
            <a:avLst>
              <a:gd name="adj1" fmla="val 50000"/>
              <a:gd name="adj2" fmla="val 80922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48000" y="1700280"/>
            <a:ext cx="3200400" cy="2743200"/>
            <a:chOff x="3348000" y="1700280"/>
            <a:chExt cx="3200400" cy="2743200"/>
          </a:xfrm>
        </p:grpSpPr>
        <p:grpSp>
          <p:nvGrpSpPr>
            <p:cNvPr id="60" name=""/>
            <p:cNvGrpSpPr/>
            <p:nvPr/>
          </p:nvGrpSpPr>
          <p:grpSpPr>
            <a:xfrm>
              <a:off x="3486960" y="1861560"/>
              <a:ext cx="3061440" cy="2581920"/>
              <a:chOff x="3486960" y="1861560"/>
              <a:chExt cx="3061440" cy="2581920"/>
            </a:xfrm>
          </p:grpSpPr>
          <p:sp>
            <p:nvSpPr>
              <p:cNvPr id="61" name=""/>
              <p:cNvSpPr/>
              <p:nvPr/>
            </p:nvSpPr>
            <p:spPr>
              <a:xfrm>
                <a:off x="3765240" y="2184120"/>
                <a:ext cx="2783160" cy="2259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625920" y="2022480"/>
                <a:ext cx="2783160" cy="2259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86960" y="1861560"/>
                <a:ext cx="2783160" cy="225900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348000" y="1700280"/>
              <a:ext cx="2921760" cy="2306160"/>
              <a:chOff x="3348000" y="1700280"/>
              <a:chExt cx="2921760" cy="2306160"/>
            </a:xfrm>
          </p:grpSpPr>
          <p:sp>
            <p:nvSpPr>
              <p:cNvPr id="65" name=""/>
              <p:cNvSpPr/>
              <p:nvPr/>
            </p:nvSpPr>
            <p:spPr>
              <a:xfrm>
                <a:off x="3348000" y="1700280"/>
                <a:ext cx="2783160" cy="225900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Рабочие места </a:t>
                </a: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клиент МОДУС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(кол-во рабочих мест определяет заказчик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Рабочее место Диспетчер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 ЭЖ Диспетчер – ввод данных и управление Щитом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МОДУС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aptop"/>
              <p:cNvSpPr/>
              <p:nvPr/>
            </p:nvSpPr>
            <p:spPr>
              <a:xfrm>
                <a:off x="3486960" y="2877120"/>
                <a:ext cx="974160" cy="806760"/>
              </a:xfrm>
              <a:prstGeom prst="pi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61120" y="2554200"/>
                <a:ext cx="1808640" cy="145224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 Ведение состояния опер. схемы вручную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 Ведение БД ЭЖ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. Квитир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 Управление Щитом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. ТУ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6913440" y="1892160"/>
            <a:ext cx="1714680" cy="19432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ЭК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(клиент МОДУ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4149720"/>
            <a:ext cx="114480" cy="457200"/>
          </a:xfrm>
          <a:prstGeom prst="upDownArrow">
            <a:avLst>
              <a:gd name="adj1" fmla="val 50000"/>
              <a:gd name="adj2" fmla="val 7950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17080" y="3789360"/>
            <a:ext cx="114120" cy="800280"/>
          </a:xfrm>
          <a:prstGeom prst="upDownArrow">
            <a:avLst>
              <a:gd name="adj1" fmla="val 50000"/>
              <a:gd name="adj2" fmla="val 1396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84000" y="4941720"/>
            <a:ext cx="3743280" cy="1219320"/>
            <a:chOff x="2484000" y="4941720"/>
            <a:chExt cx="3743280" cy="1219320"/>
          </a:xfrm>
        </p:grpSpPr>
        <p:sp>
          <p:nvSpPr>
            <p:cNvPr id="72" name=""/>
            <p:cNvSpPr/>
            <p:nvPr/>
          </p:nvSpPr>
          <p:spPr>
            <a:xfrm>
              <a:off x="2484360" y="5303880"/>
              <a:ext cx="3742920" cy="114120"/>
            </a:xfrm>
            <a:prstGeom prst="leftArrow">
              <a:avLst>
                <a:gd name="adj1" fmla="val 50000"/>
                <a:gd name="adj2" fmla="val 81995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2484000" y="5589720"/>
              <a:ext cx="3743280" cy="571320"/>
              <a:chOff x="2484000" y="5589720"/>
              <a:chExt cx="3743280" cy="571320"/>
            </a:xfrm>
          </p:grpSpPr>
          <p:sp>
            <p:nvSpPr>
              <p:cNvPr id="74" name=""/>
              <p:cNvSpPr/>
              <p:nvPr/>
            </p:nvSpPr>
            <p:spPr>
              <a:xfrm>
                <a:off x="2692080" y="5589720"/>
                <a:ext cx="3535200" cy="3916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получение данных от телемеханики (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PC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2483640" y="6046920"/>
                <a:ext cx="3742920" cy="114120"/>
              </a:xfrm>
              <a:prstGeom prst="leftArrow">
                <a:avLst>
                  <a:gd name="adj1" fmla="val 50000"/>
                  <a:gd name="adj2" fmla="val 819953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3795480" y="4941720"/>
              <a:ext cx="1663200" cy="2858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У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OP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V="1" rot="19843200">
            <a:off x="2257560" y="4341240"/>
            <a:ext cx="1439640" cy="71280"/>
          </a:xfrm>
          <a:prstGeom prst="rightArrow">
            <a:avLst>
              <a:gd name="adj1" fmla="val 50000"/>
              <a:gd name="adj2" fmla="val 50492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94920" y="3789360"/>
            <a:ext cx="1339560" cy="576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остоверность сигнал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анные ТИ и Т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можности комплекса Модус как средства отображения данных СКАДА-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Модус обладает следующей функциональность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урнал последних событий СКАДА-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ображение состояния ТС, ТИ, АПТС на схеме (в графическом представлен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ображения НЕ квитированных сигна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ображение выхода ТИ за уставки и выделение соответствующего обору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ображение на схеме недостоверности сиг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ображение срезов ТИ (графики, ретроспективы) по архивам СКАДА-системы (выполняется как дополнительный модуль расширения базовой функциональности приложений и зависит от реализации архивов ТИ СКАДА систе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лосовое оповещение при приходе сиг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ция квитирования по каждому ТС и в целом по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ображение состояния наличия НЕ квитированного события на энергообъек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ача сигнала 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вод сигнала на ручное ведение и снятие с ручного ведения (поставка на телемеханический контроль). Отображение (выделение на схеме) оборудования, снятого с телемеханического 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Щи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сигналов ТС, АПТС и выходы за уставки в БД Э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чное ведение состояния нетелемеханизированного обору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ображение на схеме и в табличном представлении отличий от но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 функциональности зависит от конфигурации ПО Модус на рабочих мес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ая функциональность комплекса Модус, обычно используемая на рабочих места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язкой к СКАДА-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бочих местах, с установленным комплексом Модус, обеспечивающим отображение данных телемеханики, обычно использу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ерархическая организация альбома схем. Удобные средства навигации по схеме как внутри одной схемы, так и между сх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ображение справочной информации из внешних Б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электрической модели (и отображение на схеме обесточенных участков и заземленных участ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ображение нормального и реального фидера (цепочки подключения в нормальном и текущем состоянии энергообъек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ка правильности переключений (подсистема предупреждений при переключения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ки из ЭЖ по критерию пользователя и отображение на сх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е другое…(зависит от конфигурации рабочих мест и выполняемых задач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бования к СКАДА-систе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 Модус обеспечивает взаимодействие со СКАДА системой в том случае, если СКАДА-система удовлетворяет следующим требова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 СКАДА-системы должен поддерживать протокол OPC - OLE for Process Control. В состав серверной части комплекса СКАДА-системы должен входи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сия комплекса 4.20 поддерживает работу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верами следующих фир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в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1 компании ДЭП (г. Моск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в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e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ЗАО "Системы Связи и Телемеханики" (ЗАО "ССТ") (г. Петербург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вер Intellution.OPCiFIX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вер RTSoft.FSCPShell компании ЗАО РТСофт (г. Моск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вер IFACE.OPC.GW компании НТК Интерфей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серверами, не указанными в п.2 комплекс Модус взаимодействует по “умолчанию”, в соответствии с настройками, указанными в привязках тегов ОРС к объектам комплекса Мод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КАДА-система не поддерживает ОРС- интерфейс, то разработку такого сервера можно заказать или у производителя СКАДА-системы или у сторонней фир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12:03:40Z</dcterms:created>
  <dc:creator>SV</dc:creator>
  <dc:description/>
  <dc:language>en-US</dc:language>
  <cp:lastModifiedBy>SV</cp:lastModifiedBy>
  <dcterms:modified xsi:type="dcterms:W3CDTF">2006-07-07T07:32:42Z</dcterms:modified>
  <cp:revision>8</cp:revision>
  <dc:subject/>
  <dc:title>Схема взаимодействия МОДУС с ЦППС </dc:title>
</cp:coreProperties>
</file>