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WAYNE.WAV" ContentType="audio/x-wav"/>
  <Override PartName="/ppt/media/image6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4D8B-9DF0-4A37-A5F6-A1E325DD5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B924-8924-4C4B-92BB-3E87319CB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744B-5D1D-435A-9238-3E0A103EE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7837-F9C7-420F-8526-C2A878D60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BAA47-AF54-47F9-8251-5162CA9C8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7D4FC-DC0C-41AC-8392-7A20587D9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5F808-A0E3-473A-87F9-F4AA66FEC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12028-E0C9-4299-B601-3AA1D196E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113AC-564C-4FD8-8D9E-07D822BFA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448BC-FD70-48E4-BD7A-49AD6C62F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1CE2E-678F-4258-B94F-A34AD813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07DE-2435-4B53-B625-8E66E57B1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D079E-FD23-4F4D-9BE8-1E3E8E50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D7AD3-B9C8-45F9-A2F3-B7B7A2DA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5F710-CC62-48CB-9504-E3161D7A0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6739C-6D66-4C5A-A1CB-472DCCC05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5126D-CCC2-44EB-92D9-650D29E3A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EF774-8E14-4F1E-8051-C8660814B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399FD-0076-4629-9D19-60E2EA3CB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41BA4-8F73-436D-8547-9754C2176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801A9-EAE9-4615-BD44-07D19B74D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D5BC2-CE70-4D37-93DA-70BA76EC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4367-3DEA-40D9-B856-CC2C908AA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82440-F2D6-49A3-B2F0-3470EF0E4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945AA-AD05-42FA-A3FA-C43A4E75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CCDEA-371F-4602-B96D-31C8D4E7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8A2B3-3D1B-4AF9-A705-15799AFE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400F3-7C5C-4708-AD72-95CF83088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73904-94E9-4F61-B101-E61D1D135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1E2BB-C83A-4DFF-A759-78CC60691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4AE2-1FD9-4223-94E1-42AE88946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1967-246B-4078-A110-651D9FFB4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7014-0FCE-4C6E-820C-60A9B58F7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FBC0-70BF-46CE-A33A-5ED84FBB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08DB-28EC-409D-B9FF-4E4A1CF8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A3C8-847C-42CE-A070-5C7D57A6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E9928-5411-4AE2-82CD-7FCB15FA0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8CE56-F8E1-48A9-9CA3-0DE0A04A238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AD672-F80C-4D63-93E8-D886DAF1F47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WAYNE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564000" y="1341000"/>
            <a:ext cx="51847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9933"/>
                </a:solidFill>
                <a:latin typeface="Arial"/>
              </a:rPr>
              <a:t>Архитектура комплекс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3592800" cy="62578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614760" y="1700280"/>
            <a:ext cx="52052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6021360"/>
            <a:ext cx="36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66760" y="6113520"/>
            <a:ext cx="354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580000" y="5877000"/>
            <a:ext cx="281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Компания Модус 2007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292720" y="6237360"/>
            <a:ext cx="339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Программное обеспечение для энерге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780000" y="333360"/>
            <a:ext cx="482436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AY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Функции плагин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856908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еспечение функциональности подсисте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страивание собственного пользовательского интерфейса в приложение (меню, кнопки, окна, в т.ч «докабельные»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заимодействие с другими плагин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страивание собственных окон настройки в единый интерфейс програм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писок базовых плагинов комплекс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рево переход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вигация по схемам и заклад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дактор оперативных зада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пряжение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C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пряжение с БД Э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пряжение с Феник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пряжение с пользовательскими БД (Справочник объектов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це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Цепоч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Управление плагинам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5259240" cy="53006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979640" y="1268280"/>
            <a:ext cx="1297080" cy="287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4120" y="2349360"/>
            <a:ext cx="587520" cy="2374920"/>
          </a:xfrm>
          <a:custGeom>
            <a:avLst/>
            <a:gdLst/>
            <a:ahLst/>
            <a:rect l="l" t="t" r="r" b="b"/>
            <a:pathLst>
              <a:path w="370" h="1496">
                <a:moveTo>
                  <a:pt x="370" y="1496"/>
                </a:moveTo>
                <a:cubicBezTo>
                  <a:pt x="192" y="1212"/>
                  <a:pt x="14" y="929"/>
                  <a:pt x="7" y="680"/>
                </a:cubicBezTo>
                <a:cubicBezTo>
                  <a:pt x="0" y="431"/>
                  <a:pt x="272" y="113"/>
                  <a:pt x="325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4120" y="2060640"/>
            <a:ext cx="587520" cy="1873080"/>
          </a:xfrm>
          <a:custGeom>
            <a:avLst/>
            <a:gdLst/>
            <a:ahLst/>
            <a:rect l="l" t="t" r="r" b="b"/>
            <a:pathLst>
              <a:path w="370" h="1180">
                <a:moveTo>
                  <a:pt x="370" y="1180"/>
                </a:moveTo>
                <a:cubicBezTo>
                  <a:pt x="192" y="938"/>
                  <a:pt x="14" y="696"/>
                  <a:pt x="7" y="499"/>
                </a:cubicBezTo>
                <a:cubicBezTo>
                  <a:pt x="0" y="302"/>
                  <a:pt x="272" y="83"/>
                  <a:pt x="325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1268280"/>
            <a:ext cx="259092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ункциональность приложения на примере Тренажер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и загрузке программы анализируются и подгружаются файлы</a:t>
            </a:r>
            <a:br>
              <a:rPr sz="1400"/>
            </a:br>
            <a:r>
              <a:rPr b="0" lang="ru-RU" sz="1800" spc="-1" strike="noStrike">
                <a:solidFill>
                  <a:srgbClr val="ffffb7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b7"/>
                </a:solidFill>
                <a:latin typeface="Arial"/>
              </a:rPr>
              <a:t>xpl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ffffb7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b7"/>
                </a:solidFill>
                <a:latin typeface="Arial"/>
              </a:rPr>
              <a:t>xf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012000" y="314172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b7"/>
                </a:solidFill>
                <a:latin typeface="Arial"/>
              </a:rPr>
              <a:t>SwMan32.ex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иложение-хо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12000" y="3860640"/>
            <a:ext cx="2303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b7"/>
                </a:solidFill>
                <a:latin typeface="Arial"/>
              </a:rPr>
              <a:t>SwMan32.xp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писок плагинов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дключенных к приложе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40360" y="5084640"/>
            <a:ext cx="230364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b7"/>
                </a:solidFill>
                <a:latin typeface="Arial"/>
              </a:rPr>
              <a:t>SwMan32.xf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файл настроек приложения-хоста и плагинов, расположение окон и кнопок на пане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76720" y="1413000"/>
            <a:ext cx="3024000" cy="2592360"/>
          </a:xfrm>
          <a:custGeom>
            <a:avLst/>
            <a:gdLst/>
            <a:ahLst/>
            <a:rect l="l" t="t" r="r" b="b"/>
            <a:pathLst>
              <a:path w="1905" h="1633">
                <a:moveTo>
                  <a:pt x="0" y="0"/>
                </a:moveTo>
                <a:cubicBezTo>
                  <a:pt x="430" y="0"/>
                  <a:pt x="861" y="0"/>
                  <a:pt x="1179" y="272"/>
                </a:cubicBezTo>
                <a:cubicBezTo>
                  <a:pt x="1497" y="544"/>
                  <a:pt x="1701" y="1088"/>
                  <a:pt x="1905" y="1633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444720" y="3645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444720" y="47973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512200" y="4600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 rot="5400000">
            <a:off x="7208280" y="4608360"/>
            <a:ext cx="2952720" cy="304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b7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Функциональность</a:t>
            </a:r>
            <a:endParaRPr b="0" lang="en-US" sz="2000" spc="1" strike="noStrike">
              <a:ln w="9360">
                <a:solidFill>
                  <a:srgbClr val="ffffb7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101080" y="3141720"/>
            <a:ext cx="216000" cy="3240000"/>
          </a:xfrm>
          <a:custGeom>
            <a:avLst/>
            <a:gdLst>
              <a:gd name="textAreaLeft" fmla="*/ 0 w 216000"/>
              <a:gd name="textAreaRight" fmla="*/ 78120 w 216000"/>
              <a:gd name="textAreaTop" fmla="*/ 84240 h 3240000"/>
              <a:gd name="textAreaBottom" fmla="*/ 3155760 h 32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78040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иложение с плагинам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0" y="907920"/>
          <a:ext cx="9144000" cy="595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9144000" cy="59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Для каждой подсистемы 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азрабатывается пара 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едактор - Плаги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4360" y="2924280"/>
            <a:ext cx="8007120" cy="31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Редактор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осуществляет привязку схемы к источнику данны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Плагин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осуществляет доступ от схемы к источнику данных в соответствии с подготовленными редактором настройкам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44080"/>
            <a:ext cx="843588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ак создать свой плагин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3059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знакомиться с основными понятиями и принципами взаимодействия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хнолог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читать документацию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лагины – руководство разработчик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Требования к реализаци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азрабатывать плагины можно на любом современном программном средстве 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lphi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isual Basic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++ и т.д.). Основным требованием является поддержка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технологии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лагин программного комплекса Modus представляет собой объект автоматизации и реализуется в виде внутрипроцессного сервера (*.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ll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) или внепроцессного сервера (*.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xe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). Кроме того, плагин должен поддерживать интерфейс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Plugin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библиотеки типов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usPlugin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lb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ализовать и отладить плаг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Архитектура комплекс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3772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вместимость с ОС: Windows 2000 Professional, SP4/2000 Server, SP4/XP, SP2/2003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крытость архитектуры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еносимост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пределах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S Window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тероперабильность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- способность к взаимодействию различных аппаратных и программных платформ. (Открытые программные интерфейсы комплекса, поддержка СОМ-технологии, объектная модель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DE-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иложения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сштабируемость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- способность ПО корректно работать на малых и на больших системах с производительностью, которая увеличивается пропорционально вычислительной мощности системы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сширяемост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доступность программного комплекса для развития. (Плагинная архитектура комплекса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6408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b7"/>
                </a:solidFill>
                <a:latin typeface="Arial Black"/>
              </a:rPr>
              <a:t>Объектная модель </a:t>
            </a:r>
            <a:r>
              <a:rPr b="1" lang="en-US" sz="2600" spc="-1" strike="noStrike">
                <a:solidFill>
                  <a:srgbClr val="ffffb7"/>
                </a:solidFill>
                <a:latin typeface="Arial Black"/>
              </a:rPr>
              <a:t>SDE – </a:t>
            </a:r>
            <a:r>
              <a:rPr b="1" lang="ru-RU" sz="2600" spc="-1" strike="noStrike">
                <a:solidFill>
                  <a:srgbClr val="ffffb7"/>
                </a:solidFill>
                <a:latin typeface="Arial Black"/>
              </a:rPr>
              <a:t>приложения</a:t>
            </a:r>
            <a:r>
              <a:rPr b="1" lang="en-US" sz="2600" spc="-1" strike="noStrike">
                <a:solidFill>
                  <a:srgbClr val="ffffb7"/>
                </a:solidFill>
                <a:latin typeface="Arial Black"/>
              </a:rPr>
              <a:t> (</a:t>
            </a:r>
            <a:r>
              <a:rPr b="1" lang="ru-RU" sz="2600" spc="-1" strike="noStrike">
                <a:solidFill>
                  <a:srgbClr val="ffffb7"/>
                </a:solidFill>
                <a:latin typeface="Arial Black"/>
              </a:rPr>
              <a:t>хоста</a:t>
            </a:r>
            <a:r>
              <a:rPr b="1" lang="en-US" sz="2600" spc="-1" strike="noStrike">
                <a:solidFill>
                  <a:srgbClr val="ffffb7"/>
                </a:solidFill>
                <a:latin typeface="Arial Black"/>
              </a:rPr>
              <a:t>)</a:t>
            </a:r>
            <a:r>
              <a:rPr b="1" lang="ru-RU" sz="2600" spc="-1" strike="noStrike">
                <a:solidFill>
                  <a:srgbClr val="ffffb7"/>
                </a:solidFill>
                <a:latin typeface="Arial Black"/>
              </a:rPr>
              <a:t>. Объекты.</a:t>
            </a:r>
            <a:endParaRPr b="1" lang="en-US" sz="2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5280" y="2420640"/>
            <a:ext cx="40384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Объек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SDEAppl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ISDEDocu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SDEDocument </a:t>
            </a:r>
            <a:r>
              <a:rPr b="1" lang="ru-RU" sz="1600" spc="-1" strike="noStrike">
                <a:solidFill>
                  <a:srgbClr val="66ccff"/>
                </a:solidFill>
                <a:latin typeface="Arial"/>
              </a:rPr>
              <a:t>докумен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Page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IPage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66ccff"/>
                </a:solidFill>
                <a:latin typeface="Arial"/>
              </a:rPr>
              <a:t>страниц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SDEObject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ISDEObject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66ccff"/>
                </a:solidFill>
                <a:latin typeface="Arial"/>
              </a:rPr>
              <a:t>объек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Para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Param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66ccff"/>
                </a:solidFill>
                <a:latin typeface="Arial"/>
              </a:rPr>
              <a:t>параметр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INode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INode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узел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SDEObjects</a:t>
            </a:r>
            <a:r>
              <a:rPr b="1" lang="ru-RU" sz="1600" spc="-1" strike="noStrike">
                <a:solidFill>
                  <a:srgbClr val="66ccff"/>
                </a:solidFill>
                <a:latin typeface="Arial"/>
              </a:rPr>
              <a:t> подключенные </a:t>
            </a:r>
            <a:br>
              <a:rPr sz="1600"/>
            </a:br>
            <a:r>
              <a:rPr b="1" lang="ru-RU" sz="16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66ccff"/>
                </a:solidFill>
                <a:latin typeface="Arial"/>
              </a:rPr>
              <a:t>            объект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SDEObjects – </a:t>
            </a:r>
            <a:r>
              <a:rPr b="1" lang="ru-RU" sz="1600" spc="-1" strike="noStrike">
                <a:solidFill>
                  <a:srgbClr val="66ccff"/>
                </a:solidFill>
                <a:latin typeface="Arial"/>
              </a:rPr>
              <a:t>подобъекты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DetailLeve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792840" y="620640"/>
          <a:ext cx="1822680" cy="59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92840" y="620640"/>
                    <a:ext cx="1822680" cy="59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324000" y="1197000"/>
            <a:ext cx="60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ъектная модель  схемы используется для получения списка элементов схемы,  их свойств и топологических связ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b7"/>
                </a:solidFill>
                <a:latin typeface="Arial Black"/>
              </a:rPr>
              <a:t>Объектная модель </a:t>
            </a:r>
            <a:r>
              <a:rPr b="1" lang="en-US" sz="2600" spc="-1" strike="noStrike">
                <a:solidFill>
                  <a:srgbClr val="ffffb7"/>
                </a:solidFill>
                <a:latin typeface="Arial Black"/>
              </a:rPr>
              <a:t>SDE – </a:t>
            </a:r>
            <a:br>
              <a:rPr sz="2600"/>
            </a:br>
            <a:r>
              <a:rPr b="1" lang="ru-RU" sz="2600" spc="-1" strike="noStrike">
                <a:solidFill>
                  <a:srgbClr val="ffffb7"/>
                </a:solidFill>
                <a:latin typeface="Arial Black"/>
              </a:rPr>
              <a:t>приложения (хоста). События.</a:t>
            </a:r>
            <a:endParaRPr b="1" lang="en-US" sz="2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4249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События используются для обработки действий пользователя на схеме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4000" y="2205000"/>
            <a:ext cx="36003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обы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RinghtC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Mouse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MouseLe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ObjectShowH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у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DocO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х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DocScale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DocScro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435640" y="1052640"/>
            <a:ext cx="3265560" cy="53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Интерфейсы приложения-хоста и </a:t>
            </a: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лагинов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788000" y="981000"/>
            <a:ext cx="3790800" cy="5688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859280" y="3141720"/>
            <a:ext cx="1728720" cy="1224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88000" y="1628640"/>
            <a:ext cx="1729080" cy="216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5724360" y="1773000"/>
            <a:ext cx="1152720" cy="1942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00000" y="4508280"/>
            <a:ext cx="32403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лагин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лжен поддержив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терфейс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Plugin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 библиотеки тип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usPlugin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lb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00000" y="1942560"/>
            <a:ext cx="36720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ложение-хост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лж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держивать и реализовы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терфей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DEApplication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 библиотеки тип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DEApp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lb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43280" y="981000"/>
            <a:ext cx="1152720" cy="28728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88000" y="981000"/>
            <a:ext cx="1152720" cy="28728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57200" y="244440"/>
            <a:ext cx="83851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Открытая плагинная архитек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4360" y="2133720"/>
            <a:ext cx="1439640" cy="7189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г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4360" y="2924280"/>
            <a:ext cx="1439640" cy="79200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г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ешних Б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4360" y="3789360"/>
            <a:ext cx="1439640" cy="79200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г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ерарх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х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4360" y="1341360"/>
            <a:ext cx="1439640" cy="7192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г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чного в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4724280"/>
            <a:ext cx="1439640" cy="79236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г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виг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схе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76720" y="1268280"/>
            <a:ext cx="2016000" cy="1800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аз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функциона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л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76720" y="1268280"/>
            <a:ext cx="2808000" cy="1800360"/>
          </a:xfrm>
          <a:prstGeom prst="rect">
            <a:avLst/>
          </a:prstGeom>
          <a:solidFill>
            <a:srgbClr val="99cc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аз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функциона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ложения-хо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76720" y="3068640"/>
            <a:ext cx="2808000" cy="360360"/>
          </a:xfrm>
          <a:prstGeom prst="rect">
            <a:avLst/>
          </a:prstGeom>
          <a:solidFill>
            <a:srgbClr val="99cc00"/>
          </a:solidFill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76720" y="3429000"/>
            <a:ext cx="2808000" cy="360360"/>
          </a:xfrm>
          <a:prstGeom prst="rect">
            <a:avLst/>
          </a:prstGeom>
          <a:solidFill>
            <a:srgbClr val="99cc00"/>
          </a:solidFill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76720" y="3789360"/>
            <a:ext cx="2808000" cy="360360"/>
          </a:xfrm>
          <a:prstGeom prst="rect">
            <a:avLst/>
          </a:prstGeom>
          <a:solidFill>
            <a:srgbClr val="99cc00"/>
          </a:solidFill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76720" y="4149720"/>
            <a:ext cx="2808000" cy="360360"/>
          </a:xfrm>
          <a:prstGeom prst="rect">
            <a:avLst/>
          </a:prstGeom>
          <a:solidFill>
            <a:srgbClr val="99cc00"/>
          </a:solidFill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76720" y="4508640"/>
            <a:ext cx="2808000" cy="360360"/>
          </a:xfrm>
          <a:prstGeom prst="rect">
            <a:avLst/>
          </a:prstGeom>
          <a:solidFill>
            <a:srgbClr val="99cc00"/>
          </a:solidFill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124000" y="1700280"/>
            <a:ext cx="1152720" cy="151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76720" y="4869000"/>
            <a:ext cx="2808000" cy="360360"/>
          </a:xfrm>
          <a:prstGeom prst="rect">
            <a:avLst/>
          </a:prstGeom>
          <a:solidFill>
            <a:srgbClr val="99cc00"/>
          </a:solidFill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020000" y="1268280"/>
            <a:ext cx="1657440" cy="9367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г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ьзовате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архивы 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020000" y="2349360"/>
            <a:ext cx="1657440" cy="11527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г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ьзова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Инструкц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4360" y="5734080"/>
            <a:ext cx="1439640" cy="79200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г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ер. зад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76720" y="5229360"/>
            <a:ext cx="2808000" cy="360360"/>
          </a:xfrm>
          <a:prstGeom prst="rect">
            <a:avLst/>
          </a:prstGeom>
          <a:solidFill>
            <a:srgbClr val="99cc00"/>
          </a:solidFill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76720" y="5589720"/>
            <a:ext cx="2808000" cy="360360"/>
          </a:xfrm>
          <a:prstGeom prst="rect">
            <a:avLst/>
          </a:prstGeom>
          <a:solidFill>
            <a:srgbClr val="99cc00"/>
          </a:solidFill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76720" y="5950080"/>
            <a:ext cx="2808000" cy="360360"/>
          </a:xfrm>
          <a:prstGeom prst="rect">
            <a:avLst/>
          </a:prstGeom>
          <a:solidFill>
            <a:srgbClr val="99cc00"/>
          </a:solidFill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093080" y="3645000"/>
            <a:ext cx="1657080" cy="115236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г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124000" y="2421000"/>
            <a:ext cx="1079640" cy="107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24000" y="3284640"/>
            <a:ext cx="1152720" cy="64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95640" y="4221000"/>
            <a:ext cx="1081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195640" y="4652640"/>
            <a:ext cx="100800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124000" y="5084280"/>
            <a:ext cx="1152720" cy="10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6084720" y="1628640"/>
            <a:ext cx="935280" cy="374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6084720" y="2852640"/>
            <a:ext cx="935280" cy="295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6084360" y="4221000"/>
            <a:ext cx="1008360" cy="194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иложения - хос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нтегратор сх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едактор сх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лектронный журна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ренажер по оперативным переключения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ниматор сх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79480" y="5440320"/>
            <a:ext cx="794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Arial"/>
              </a:rPr>
              <a:t>Один и тот же плагин можно подключать к </a:t>
            </a:r>
            <a:br>
              <a:rPr sz="2400"/>
            </a:br>
            <a:r>
              <a:rPr b="0" i="1" lang="ru-RU" sz="2400" spc="-1" strike="noStrike">
                <a:solidFill>
                  <a:srgbClr val="ffff00"/>
                </a:solidFill>
                <a:latin typeface="Arial"/>
              </a:rPr>
              <a:t>любому приложению - хос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9152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Базовая функциональность приложения-хоста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23640" y="1052280"/>
            <a:ext cx="856908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агрузка и отображение схемы из файла данных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ечать изображен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ереход по связям элементов схем (гиперссылкам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нтерфейс управления отображением - масштабирование, прокрутка, детализац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ыстрый поиск участков схемы с использованием окна навигаци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оступ программы к элементам схемы по их идентификаторам (свойства, топология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иск и показ элемента по идентификатор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оступ к элементу под курсором мыш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зменение состояния элементов схем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бработку реакции приложения на нажатие клавиши мыши в поле схемы и на переход по гиперссылк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тображение обесточенных участков схем в соответствии с коммутационной моделью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стройка вида схемы в соответствии со стандартами, принятыми в организации пользовател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ногое другое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Инфраструктура приложения (хоста) обеспечивает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594640" cy="43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заимодействие плагина с объектной моделью прилож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равление регистрацией и временем жизни (загрузк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ыгрузки) плаг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зможность встраивания интерфейсных элементов плагинов (кнопки, меню, окн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динообразный доступ к настройк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динообразная обработка сообщений об ошибк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динообразный стиль пользовательского интерфей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2T04:52:40Z</dcterms:created>
  <dc:creator>SV</dc:creator>
  <dc:description/>
  <dc:language>en-US</dc:language>
  <cp:lastModifiedBy>SV</cp:lastModifiedBy>
  <dcterms:modified xsi:type="dcterms:W3CDTF">2007-04-14T13:41:25Z</dcterms:modified>
  <cp:revision>58</cp:revision>
  <dc:subject/>
  <dc:title>Слайд 1</dc:title>
</cp:coreProperties>
</file>