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72A-B4A4-4804-AEB3-9EFB7986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A0B-8DF2-4DA3-B5DD-5C06245A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39D-B6D5-4B49-8D77-CF24ED2E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3E6-D854-4806-9BDA-AF24F8B3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DC7B-4C19-4493-86A4-24C2B7F3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D1CB-45B3-41D3-8AD5-837E67EE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BC33-C26B-40E5-A903-1582E475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3FB1-76A6-4CE1-B637-1552075E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3A32-989F-408D-B15B-C3433C2A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968B-C501-4665-98E0-F95ED515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5958-503E-48FB-9ABF-006C67A1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BB2-4F00-4658-A13E-35BFD508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AAF2-252D-4C70-8ED6-622250C5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31C7-4616-4193-BA3D-7A1E3E52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480C-3C57-437D-A919-39FAF245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493D-CFCD-4596-9CC5-F1C5C59E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2E7A-4E93-40AF-94FE-C4F5D0A8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D0A-7F38-453C-92AC-C1BEEC35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5D4-824D-40C4-8154-24AB692B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130-16BD-4120-8BCC-3E3D9025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CA2-0AF5-40D9-A5D2-48F39288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466-3098-4900-95E7-3DEA226E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385-E0AA-435D-81D9-D54E4F91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D5E-3857-4C0A-8457-E38ADE7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8986-5767-4922-B7B2-70CB6E73F3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1AFA-0417-4E4A-A9ED-6B15AD1AF2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10920" y="549360"/>
            <a:ext cx="7705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ограммный комплекс Модус.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Интеграция схемной графики. 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Компонент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ActivesXeme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67374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Компонент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 ActivesXeme.</a:t>
            </a: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100"/>
            </a:b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Назначение.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ное использование схемной графики, подготовленной в графическом редакторе Моду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ложениях комплекса Мод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ях сторонних разработч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орпоративных информационных системах, разрабатываемых на предприятиях электроэнерге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шениях, основанны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/Intran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хнолог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ежать дорогостоящей разработки собственных графиче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изировать формат отображения и обмена схемами между технологическими приложениями и предприят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збавьте себя от перерисовки схем для каждой задачи, и конвертации данных из одного формата в друг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7543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Использование 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ctivesXem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1612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гласование имеющихся у пользователя баз данных с элементами схем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ображение актуального состояния элементов схемы и параметров режима. Информация о состоянии элементов (положение коммутационных аппаратов, результаты измерений, выраженные численно, необходимость выделения элементов) поставляется программой и отображается средствами взаимодействия с графическим компонентом. Источниками информации могут быть как ОИК, так и база данных, программы расчета и анализа режима сети и т.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здание графического интерфейса расчетных программ. Может быть организован автоматический запуск счетчика по факту переключения коммутационного аппарата, доступ к параметрам расчетной модели через элементы схемы и многое другое. Отображение результатов расчетов на схеме, как в виде текста, так и в форме показаний макетов приб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истанционное управление объектом. Воздействие оператора программы на элемент схемы может быть преобразовано в команду системы телеуправления объект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ет состояния схем в процессе обработки и согласования заявок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5580000" y="3857760"/>
          <a:ext cx="3368880" cy="27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3857760"/>
                    <a:ext cx="336888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0066"/>
                </a:solidFill>
                <a:latin typeface="Arial"/>
              </a:rPr>
              <a:t>Приложения Модус, основанные </a:t>
            </a:r>
            <a:br>
              <a:rPr sz="2300"/>
            </a:br>
            <a:r>
              <a:rPr b="1" lang="ru-RU" sz="2300" spc="-1" strike="noStrike">
                <a:solidFill>
                  <a:srgbClr val="330066"/>
                </a:solidFill>
                <a:latin typeface="Arial"/>
              </a:rPr>
              <a:t>на </a:t>
            </a:r>
            <a:r>
              <a:rPr b="1" lang="en-US" sz="2300" spc="-1" strike="noStrike">
                <a:solidFill>
                  <a:srgbClr val="330066"/>
                </a:solidFill>
                <a:latin typeface="Arial"/>
              </a:rPr>
              <a:t>ActivesXeme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627280" y="3213000"/>
            <a:ext cx="3745080" cy="2822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79280" y="3500280"/>
            <a:ext cx="4038840" cy="2926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5280" y="1125360"/>
            <a:ext cx="662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актор связ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актор связей с Б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актор навигационных дерев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мотр результатов трениро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ановка диспетчерских наимен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актор бланков переклю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ctivesXeme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обеспечивае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0074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Загрузку и отображение схемы из файл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ечать изображ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ереход по связям элементов схем (гиперссылкам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нтерфейс управления отображением - масштабирование, прокрутку, детализацию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Быстрый поиск участков схемы с использованием окна навиг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Доступ программы к элементам схемы по их идентификаторам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иск и показ элемента по идентификатору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Доступ к элементу под курсором мыш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зменение состояния элементов схем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бработку реакции приложения на нажатие клавиши мыши в поле схемы и на переход по гиперссылк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тображение обесточенных участков схем в соответствии с коммутационной моделью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астройка вида схемы в соответствии со стандартами, принятыми в организации пользовател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2205000"/>
            <a:ext cx="42847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ся опыт использования в сред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ph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++ Buil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S Visual studio (C++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xPro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B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S Visual studio .N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S Ac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S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acle Develop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433760" y="1125360"/>
            <a:ext cx="4489560" cy="55166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79280" y="333360"/>
            <a:ext cx="662472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0066"/>
                </a:solidFill>
                <a:latin typeface="Arial"/>
              </a:rPr>
              <a:t>Программная реализация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341360"/>
            <a:ext cx="5472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а на технологиях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, Activ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Объектная модель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SDE – </a:t>
            </a: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приложения. Объекты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4038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Объек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DEApplic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SDEDocuments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HTSDE2.OC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DEDocument </a:t>
            </a:r>
            <a:r>
              <a:rPr b="1" lang="ru-RU" sz="1500" spc="-1" strike="noStrike">
                <a:solidFill>
                  <a:srgbClr val="66ccff"/>
                </a:solidFill>
                <a:latin typeface="Arial"/>
              </a:rPr>
              <a:t>докумен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Page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IPage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66ccff"/>
                </a:solidFill>
                <a:latin typeface="Arial"/>
              </a:rPr>
              <a:t>страниц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DEObject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ISDEObject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66ccff"/>
                </a:solidFill>
                <a:latin typeface="Arial"/>
              </a:rPr>
              <a:t>объек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Para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Param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66ccff"/>
                </a:solidFill>
                <a:latin typeface="Arial"/>
              </a:rPr>
              <a:t>параметр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INode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INode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узел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DEObjects</a:t>
            </a:r>
            <a:r>
              <a:rPr b="1" lang="ru-RU" sz="1500" spc="-1" strike="noStrike">
                <a:solidFill>
                  <a:srgbClr val="66ccff"/>
                </a:solidFill>
                <a:latin typeface="Arial"/>
              </a:rPr>
              <a:t> подключенные </a:t>
            </a:r>
            <a:br>
              <a:rPr sz="1500"/>
            </a:br>
            <a:r>
              <a:rPr b="1" lang="ru-RU" sz="15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ru-RU" sz="1500" spc="-1" strike="noStrike">
                <a:solidFill>
                  <a:srgbClr val="66ccff"/>
                </a:solidFill>
                <a:latin typeface="Arial"/>
              </a:rPr>
              <a:t>            объек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DEObjects – </a:t>
            </a:r>
            <a:r>
              <a:rPr b="1" lang="ru-RU" sz="1500" spc="-1" strike="noStrike">
                <a:solidFill>
                  <a:srgbClr val="66ccff"/>
                </a:solidFill>
                <a:latin typeface="Arial"/>
              </a:rPr>
              <a:t>подобъекты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DetailLev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792840" y="620640"/>
          <a:ext cx="182268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2840" y="620640"/>
                    <a:ext cx="18226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24000" y="119700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ая модель  схемы используется для получения списка элементов схемы,  их свойств и топологических свя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Объектная модель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SDE – </a:t>
            </a: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приложения. </a:t>
            </a:r>
            <a:br>
              <a:rPr sz="2000"/>
            </a:b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События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49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обытия используются для обработки действий пользователя на схем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2205000"/>
            <a:ext cx="360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обыт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Элемен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Cli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RinghtCli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MouseEn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MouseLea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ObjectShowH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окумен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DocOp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DocScaleChang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DocScrol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435640" y="1052640"/>
            <a:ext cx="32655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Проекты сторонних разработок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с </a:t>
            </a:r>
            <a:br>
              <a:rPr sz="2200"/>
            </a:b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использованием графической системы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105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ИК «Котми» - использование схемной графики как средства отображения и привязки данных ( НТЦ ЭЦМ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ИК «Диспетчер» - НТК Интерфей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АК «Пегас» (СамГТУ) – расчет режима сетей электроснаб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«Черный ящик» - НТЦ Го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порядка 50 организаций - разработч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96000" y="981000"/>
            <a:ext cx="3021120" cy="2519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27640" y="2205000"/>
            <a:ext cx="3166920" cy="24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5364000" y="3718080"/>
          <a:ext cx="3475080" cy="277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4000" y="3718080"/>
                    <a:ext cx="347508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8:01:22Z</dcterms:created>
  <dc:creator>Сергей Амелин</dc:creator>
  <dc:description/>
  <dc:language>en-US</dc:language>
  <cp:lastModifiedBy>Sergey Amelin</cp:lastModifiedBy>
  <dcterms:modified xsi:type="dcterms:W3CDTF">2006-10-17T21:29:25Z</dcterms:modified>
  <cp:revision>103</cp:revision>
  <dc:subject/>
  <dc:title>Slide 1</dc:title>
</cp:coreProperties>
</file>