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B65-BA18-4193-9590-CC75C66F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854-0F8C-41C1-9CFF-4D8A609F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F09-30FF-4BD3-AB92-D92DF8C9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AC1-01D1-4433-9B10-8D30E67A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E90F-1ADF-4F69-9801-652169DD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86F-8EBC-4A6E-8AB1-EFB5689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7D73-9AC0-4622-B14E-7F86C4D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9775-6976-4271-84F7-0AB9EF09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25BC-0D57-4BBA-A7F2-07F0A565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20CC-D787-433C-8400-02CEAC9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6642-FB77-4F11-8BCF-C93C2AA2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F20-BE53-4CD4-9C71-6CA4CBE7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95A1-0D03-4B03-BF25-006A337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FB57-D3FF-4059-B743-47DF15DA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3F53-EFDF-413F-8B46-64BF466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E7BD-B26D-4223-9ED5-9E34D698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B89A-1C4C-4852-985F-CDF3285F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6D1-591F-4FDC-949D-6392A29D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E70-8617-4DCB-8B97-7CD2AE6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35E-98BD-4715-A403-13DA51B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E6B-6B5A-4044-A83E-87187B3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4BC-2F5E-43B9-BF20-CB5F010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B42-46D3-4F8C-A1E9-DAD62C8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298-6E54-46B4-A905-EE8993A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9B81-219F-4F5E-ABA5-90F09912A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F1F5-C8AB-4FA9-ADDE-CB17820D7C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08360" y="1844640"/>
            <a:ext cx="518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Программ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обеспечение для предприятий электроэнерге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300640"/>
            <a:ext cx="251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486a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486a"/>
                </a:solidFill>
                <a:latin typeface="Arial"/>
              </a:rPr>
              <a:t>Компания Мод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8486a"/>
                </a:solidFill>
                <a:uFillTx/>
                <a:latin typeface="Arial"/>
              </a:rPr>
              <a:t>www.swman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Ручное ведение мнемосхемы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чное ведение нетелемеханизированного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вод присоединений с одной системы шин на друг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вод на обходную С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с телемеханического контр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метки о повреждениях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мобильными элемен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к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носные зазем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т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метки проведения ремонтны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Установка плакатов</a:t>
            </a:r>
            <a:br>
              <a:rPr sz="3600"/>
            </a:b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В случае отказа ЭКП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 контроллера ЭКП. Один в рабочем режиме, другой – в горячем резер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 же схема доступна на всех рабочих местах диспетчеров, однако в худшей обзор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Электронный журнал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то средство внесения, обработки,  хранения и представления оперативной информации в электронном виде, используемое на рабочем месте оперативного персонала в энергет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Способы ведения мнемосхемы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69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чной – через схемный интерфей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операционное ведение мнемо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ксация состояния нетелемеханизированного оборудования и параметров снятых с телемех. контр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метки о повреждениях обору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метки на схеме ОВБ, плакаты, ПЗЗ и п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ксация группы действий  по БП или 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ение данных от СКАДА-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щи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ит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естовый режим работы со схем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дение разных типов сх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ические и схемы собственных нуж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лемеханические и п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20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ооперационное ведение мнемосхемы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16360" y="1341360"/>
            <a:ext cx="471672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матическое изменение режима схемы в зависимости от изменения состояния обору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007520" y="5504400"/>
            <a:ext cx="1042920" cy="1067040"/>
          </a:xfrm>
          <a:custGeom>
            <a:avLst/>
            <a:gdLst>
              <a:gd name="textAreaLeft" fmla="*/ 363960 w 1042920"/>
              <a:gd name="textAreaRight" fmla="*/ 894600 w 1042920"/>
              <a:gd name="textAreaTop" fmla="*/ 613440 h 1067040"/>
              <a:gd name="textAreaBottom" fmla="*/ 915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5490"/>
                </a:moveTo>
                <a:lnTo>
                  <a:pt x="12415" y="15490"/>
                </a:lnTo>
                <a:lnTo>
                  <a:pt x="12415" y="7538"/>
                </a:lnTo>
                <a:lnTo>
                  <a:pt x="9340" y="7538"/>
                </a:lnTo>
                <a:lnTo>
                  <a:pt x="15470" y="0"/>
                </a:lnTo>
                <a:lnTo>
                  <a:pt x="21600" y="7538"/>
                </a:lnTo>
                <a:lnTo>
                  <a:pt x="18525" y="7538"/>
                </a:lnTo>
                <a:lnTo>
                  <a:pt x="185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9933"/>
          </a:solidFill>
          <a:ln cap="sq" w="12600">
            <a:solidFill>
              <a:srgbClr val="484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495680" cy="3938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8862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345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Отметки на схеме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7280" y="765000"/>
            <a:ext cx="50403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к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носные зазем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т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етки о работе рем. брига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В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349360" cy="1419120"/>
          </a:xfrm>
          <a:prstGeom prst="rect">
            <a:avLst/>
          </a:prstGeom>
          <a:ln w="25560">
            <a:solidFill>
              <a:srgbClr val="3dcc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2286000" cy="1721160"/>
          </a:xfrm>
          <a:prstGeom prst="rect">
            <a:avLst/>
          </a:prstGeom>
          <a:ln w="25560">
            <a:solidFill>
              <a:srgbClr val="3dccff"/>
            </a:solidFill>
            <a:miter/>
          </a:ln>
        </p:spPr>
      </p:pic>
      <p:graphicFrame>
        <p:nvGraphicFramePr>
          <p:cNvPr id="144" name=""/>
          <p:cNvGraphicFramePr/>
          <p:nvPr/>
        </p:nvGraphicFramePr>
        <p:xfrm>
          <a:off x="4356000" y="3357720"/>
          <a:ext cx="4572000" cy="32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357720"/>
                    <a:ext cx="457200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3673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8900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Схема газового поста С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18900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Схема Насосной 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95200" y="6521040"/>
            <a:ext cx="61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правление вентилем в схеме оборотного водоснаб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Модус сегодня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опроизводительная расширяема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рафическая сис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зуальные средства построения компьютерной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одели энерго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егрированная платфор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троения пользовательского интерфейса верхнего уровня для диспетчерского управления и технологических применений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граммная платформа представляет собой автономное решение, в то же время позволяющее интегрироваться с уже имеющимися ОИК в качестве источников телеинформации, а также с имеющимися БД НС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грация с СУ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латформа разработки приложений для электроэнергет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использованием схемной графики. Открытый программный интерфей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сширяемая архитекту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азовых приложений. Плагинная архитектура комплек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кальные технологии организации диспетчерской рабо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граммное обеспечени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едения мнемосхемы и электронного журн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испетчерские тренаже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люб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C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еш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Arial"/>
              </a:rPr>
              <a:t>Около 40 исполняемых модулей в сист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685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9280" y="18900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Схема компрессорной установ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800" y="6490440"/>
            <a:ext cx="9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тили, перепускные клапаны, ключи режима работы, фланцевые соединения и т.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935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18900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Ведение схем оперативного то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30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189000"/>
            <a:ext cx="8964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Ведение схем собственных нуж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Состояние схемы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14400" y="2209680"/>
            <a:ext cx="3657600" cy="914400"/>
            <a:chOff x="914400" y="2209680"/>
            <a:chExt cx="3657600" cy="914400"/>
          </a:xfrm>
        </p:grpSpPr>
        <p:sp>
          <p:nvSpPr>
            <p:cNvPr id="161" name=""/>
            <p:cNvSpPr/>
            <p:nvPr/>
          </p:nvSpPr>
          <p:spPr>
            <a:xfrm>
              <a:off x="914400" y="2209680"/>
              <a:ext cx="3657600" cy="914400"/>
            </a:xfrm>
            <a:prstGeom prst="flowChartProcess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9280" y="2362320"/>
              <a:ext cx="322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остояние схем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4920" y="3124080"/>
            <a:ext cx="3809880" cy="2819520"/>
            <a:chOff x="304920" y="3124080"/>
            <a:chExt cx="3809880" cy="2819520"/>
          </a:xfrm>
        </p:grpSpPr>
        <p:sp>
          <p:nvSpPr>
            <p:cNvPr id="164" name=""/>
            <p:cNvSpPr/>
            <p:nvPr/>
          </p:nvSpPr>
          <p:spPr>
            <a:xfrm>
              <a:off x="457200" y="4495680"/>
              <a:ext cx="365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Оперативное состояние схем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920" y="4191120"/>
              <a:ext cx="3733560" cy="1752480"/>
            </a:xfrm>
            <a:prstGeom prst="flowChartProcess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47560" y="3124080"/>
              <a:ext cx="15228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4800" y="3124080"/>
            <a:ext cx="4267080" cy="2819520"/>
            <a:chOff x="4114800" y="3124080"/>
            <a:chExt cx="4267080" cy="2819520"/>
          </a:xfrm>
        </p:grpSpPr>
        <p:sp>
          <p:nvSpPr>
            <p:cNvPr id="168" name=""/>
            <p:cNvSpPr/>
            <p:nvPr/>
          </p:nvSpPr>
          <p:spPr>
            <a:xfrm>
              <a:off x="4267080" y="4191120"/>
              <a:ext cx="4114800" cy="1752480"/>
            </a:xfrm>
            <a:prstGeom prst="flowChartProcess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3124080"/>
              <a:ext cx="533520" cy="10670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4343400"/>
              <a:ext cx="358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остояние схемы на указанный момент времен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0" y="2209680"/>
            <a:ext cx="3971880" cy="914400"/>
            <a:chOff x="4572000" y="2209680"/>
            <a:chExt cx="3971880" cy="914400"/>
          </a:xfrm>
        </p:grpSpPr>
        <p:sp>
          <p:nvSpPr>
            <p:cNvPr id="172" name=""/>
            <p:cNvSpPr/>
            <p:nvPr/>
          </p:nvSpPr>
          <p:spPr>
            <a:xfrm>
              <a:off x="5334120" y="2209680"/>
              <a:ext cx="3209760" cy="914400"/>
            </a:xfrm>
            <a:prstGeom prst="flowChartProcess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23623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орм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2666880"/>
              <a:ext cx="762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Электронный журнал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тивная информация представляется в электронном ви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ота досту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е объемы информ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ьные выборки (отличия от НС, списки установленных ПЗ и прочее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сть представления (качественная графика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лективный доступ к оперативной информации 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ллективный анализ оперативной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Ведение электронного журнала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автоматическое ведение системного журнала на основе ведения истории изменения мнемосхемы и других событий в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атическое формирование пояснительных записей к событ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раиваемый набор событий, фиксируемых в системе. Приме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остояний 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реждение обору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 переносных заземлений, шунтов, мест аварий, местонахождение ОВБ, участков проведения ремонтных раб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шиновка-расши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ход-осмотр объ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рочные действия (проверка исправности, полож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ая информация и п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632720" cy="4461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9396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Автоматическое формирование содержания записи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Быстрый поиск по критериям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 выделение элементов схемы по критерия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исправное  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арийно отключенное обору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ческое выделение элементов сх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хемы с состоянием, отличным от норм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оверные сигналы ТС, ТИ. Сигнал ТС, ТИ отключ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квитированные сигналы Т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ые с контроля Т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точенные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земленные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груженные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Дополнительные журналы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истеме может вестись одновременно несколько жур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ы жур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ленные ПЗЗ и включенные З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и с ПЗЗ и ЗЗМ за сме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 длительных откло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 снятых с контроля Т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ход ТИ за уст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 переключений М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 отклонений от нормальной сх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кация АВР и Р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и с плака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ленные отметки (плакаты, ПЗ, спетления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93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Выборки и сортировки по журналам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ка записей по журнал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момента регистрации диспетчера в сист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редыдущей регистрации диспетчера в сист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и, связанные с изменениями оперативной схемы за указанный период времен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и, связанные с изменениями на выбранном энергообъект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иси в указанном диапазоне, относящиеся к аварийным переключения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тировка записей по объектам, дате и времени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678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Программное решение для ведения </a:t>
            </a: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мнемосхемы с использованием экрана коллективного пользования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852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 Black"/>
              </a:rPr>
              <a:t>Объем представляемой информаци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0755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ообъек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станции, линии 110-220-500 к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0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1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стан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ставе схем энергообъект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ы ши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нерато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форматоры 110-500 к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ключатели (с текущей фиксацией)  2700 присоеди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динители (выборочно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нхронные компенсаторы, реакто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349360"/>
            <a:ext cx="75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Программный комплекс Модус как платформа разработки приложений для электроэнергетики с использованием схемной графики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ция для разработчиков прикладных систем об архитектуре 4-й версии программного комплек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Возможные Применения </a:t>
            </a: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ActivesXem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215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гласование имеющихся у пользователя баз данных с элементами сх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ображение актуального состояния элементов схемы и параметров режима. Источниками информации могут быть как ОИК, так и база данных, программы расчета и анализа режима сети и т.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графического интерфейса расчетных программ. Отображение результатов расчетов на схеме, как в виде текста, так и в форме показаний макетов прибо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танционное управление объек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 состояния схем в процессе обработки и согласования заяв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СУБД, ОИК,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SCADA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, АСКУЭ, ГИС,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РАСЧЕТЫ, ЗАЯВКИ, ТРЕНАЖЕРЫ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емно - ориентированная граф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2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ожениями сторонних разработ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sX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ph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++ Build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 Visual studio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+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xPr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 Studio 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#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B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 Office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cces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d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cle Develo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 Black"/>
              </a:rPr>
              <a:t>Объектная модель </a:t>
            </a:r>
            <a:r>
              <a:rPr b="1" lang="en-US" sz="2400" spc="-1" strike="noStrike">
                <a:solidFill>
                  <a:srgbClr val="f8f8f8"/>
                </a:solidFill>
                <a:latin typeface="Arial Black"/>
              </a:rPr>
              <a:t>SDE - </a:t>
            </a:r>
            <a:r>
              <a:rPr b="1" lang="ru-RU" sz="2400" spc="-1" strike="noStrike">
                <a:solidFill>
                  <a:srgbClr val="f8f8f8"/>
                </a:solidFill>
                <a:latin typeface="Arial Black"/>
              </a:rPr>
              <a:t>приложения</a:t>
            </a:r>
            <a:endParaRPr b="1" lang="en-US" sz="2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5111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бъе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DE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SDEDocuments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SDE2.OC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DEDocument 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g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IPage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стра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DEObjec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ISDEObjec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ra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парамет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INod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ode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зе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DEObjects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 подключенные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            объек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DEObjects – 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подобъект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tail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836640"/>
            <a:ext cx="3564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обы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l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RinghtCl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Mouse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MouseLe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ObjectShowH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оку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oc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х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ocScale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ocScro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 Black"/>
              </a:rPr>
              <a:t>Базовая функциональность </a:t>
            </a: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ActivesXem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рузка и отображение схемы из файла данн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чать изобра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ход по связям элементов схем (гиперссылка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рфейс управления отображением - масштабирование, прокрутка, детализац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ыстрый поиск участков схемы с использованием окна навиг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ступ программы к элементам схемы по их идентификаторам (свойства, топологи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иск и показ элемента по идентификато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ступ к элементу под курсором мы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ение состояния элементов сх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ботку реакции приложения на нажатие клавиши мыши в поле схемы и на переход по гиперссы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ображение обесточенных участков схем в соответствии с коммутационной модел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ройка вида схемы в соответствии со стандартами, принятыми в организации пользов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 Black"/>
              </a:rPr>
              <a:t>Открытая плагинная архитектура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133720"/>
            <a:ext cx="1440000" cy="718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292428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х 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78936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1341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ого в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4724280"/>
            <a:ext cx="1440000" cy="79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иг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х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1268280"/>
            <a:ext cx="2016360" cy="180036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268280"/>
            <a:ext cx="2808360" cy="180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306864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342900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378936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14972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50864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1700280"/>
            <a:ext cx="1152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486900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6000" y="1268280"/>
            <a:ext cx="1657080" cy="936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вы 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349360"/>
            <a:ext cx="1657080" cy="1152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струкц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573408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.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522936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558972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595008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3645000"/>
            <a:ext cx="1657440" cy="115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2421000"/>
            <a:ext cx="1079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0000" y="3284640"/>
            <a:ext cx="115236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221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11280" y="4652640"/>
            <a:ext cx="100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340000" y="5084280"/>
            <a:ext cx="1152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300720" y="1628640"/>
            <a:ext cx="935280" cy="374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00720" y="2852640"/>
            <a:ext cx="93528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300720" y="4221000"/>
            <a:ext cx="100800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Приложение с плагинами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 Black"/>
              </a:rPr>
              <a:t>Инфраструктура приложения (хоста) обеспечивает</a:t>
            </a: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: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594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аимодействие плагина с объектной моделью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регистрацией и временем жизни (загруз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грузки) плаг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встраивания интерфейсных элементов плагинов (кнопки, меню, ок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ый доступ к настрой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ая обработка сообщений об ошиб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ый стиль пользовательского интерфей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ая среда настройки плаги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риложения - хосты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гра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дак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ажер по оперативным переключен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има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9480" y="54403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Один и тот же плагин можно подключать к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любому приложению - хос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Базовые плагины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50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гин навигационных деревьев. Дерево переходов по схем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гин связи с телемеханикой (Плагин связи с OPC). Отображение данных от телемеханики (ТС и ТИ). Журнал последних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гин ЭЖ. Обеспечивает отображение данных, введенных диспетчером в программе Диспетчер ЭЖ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гин цепочек. Выделение нормальных и реальных фид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гин связи схем с внешними БД. Показывает данные по оборудованию, подстанция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гин навигации по схеме. Ведет историю переходов по схемам, закладки на схемах, избра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актор оперативных зада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Объем выводимой информации на ЭКП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фигурация ЭК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идеокуба 409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230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икс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н подход, позволяющий уместить на экране схему в требуемой конфигур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рабочих места диспетч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76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Интеграция с БД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40000" y="593640"/>
            <a:ext cx="680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ривязка к СУБД по ключам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74040" cy="3538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0" y="5734080"/>
            <a:ext cx="88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Технология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inksXeme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зволяет привязать имеющуюся у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льзователя БД БЕЗ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РОГРАММ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Формы сотрудничеств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вка «коробочного» 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едрение проектов «под ключ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заимодействие с разработчиками при интеграции ПО Модус и ПО других производителей, выбранных заказч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сультирование (авторское сопровождени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7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Моделирование присоединений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263600"/>
            <a:ext cx="70563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Понятие представлений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«композитный» графический элемент моделирует целое присоединение – около 5-10 коммутационных аппар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можность построения достоверной электрической коммутационной модели сети на основе одного схемного представ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472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Вид схемы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Как выглядит схема на ЭКП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320" y="1268280"/>
            <a:ext cx="9067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8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Получение данных телеметрии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го 2000 ТИ, 4000 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но 60% выключателей телемеханизированы, состояние остальных ведется вручную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поступают с сервера телемеханик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Т-Соф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ротокол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P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5589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ая обработка ТИ – модуль прие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PC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налов осуществляет функции дорасч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8:01:22Z</dcterms:created>
  <dc:creator>Сергей Амелин</dc:creator>
  <dc:description/>
  <dc:language>en-US</dc:language>
  <cp:lastModifiedBy>SV</cp:lastModifiedBy>
  <dcterms:modified xsi:type="dcterms:W3CDTF">2006-03-23T08:05:41Z</dcterms:modified>
  <cp:revision>179</cp:revision>
  <dc:subject/>
  <dc:title>Slide 1</dc:title>
</cp:coreProperties>
</file>