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16EF-DDA7-4977-8A34-3B20E2C05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01DF-60FA-4EEF-A55F-B4148F9C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0DD-8C34-40E9-A5A0-4AF0AAD93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E769-4601-41B2-912B-28DE09B6E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41D51-6708-44A1-9438-D17297F86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E40B4-1092-4852-8C2B-79BA65E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C2E2F-7F68-4A1F-9885-196691CAB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4F4A-DFAC-4669-812A-924FBE7DA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0D02C-0BB4-41F7-B531-05B119DB8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4ABB-FE09-49BA-B9C5-73FCCEA2B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837B9-44C8-43CE-BD04-49BE8A96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A346-BEEF-4A08-AAE3-00E68CE1A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256D0-A83E-499B-8BB3-17A496BBA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4BAFE-62E7-40B7-BF24-6C04BBEA2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F0A5-BD76-4B96-9B7E-3B1E34EDC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8526B-7484-4FCE-B84E-DC76644DB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0CC4E-34DB-4D40-8374-AB6404B5F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E2CD-0643-48BC-B94A-91AD45A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2FF5-56C4-4CDA-8B74-F7809AE59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A5A8-B80A-4789-B798-F08CB361E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1C25-4DB3-4E5F-8F3F-0C7943BD5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127E-EEE8-4D85-A7DA-D7ACBCA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423-49CF-4F96-9941-18D233B2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C36A-5E7E-4D82-87A2-EDFC167E8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767DA-01A8-40D9-931F-941AD7F2F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48486a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86a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3a3a56"/>
                </a:gs>
                <a:gs pos="100000">
                  <a:srgbClr val="48486a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d5d7b"/>
                </a:gs>
                <a:gs pos="100000">
                  <a:srgbClr val="48486a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1F02-BA9F-47FC-ACB8-F6E7A292A3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6407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Программный комплекс Модус как платформа разработки приложений для электроэнергетики с использованием схемной графики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539280" y="4869000"/>
            <a:ext cx="820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формация для разработчиков прикладных систем об архитектуре 4-й версии программного комплек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8f8f8"/>
                </a:solidFill>
                <a:latin typeface="Arial Black"/>
              </a:rPr>
              <a:t>Управление плагинами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95200" y="1484280"/>
            <a:ext cx="5429160" cy="44877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859280" y="3274920"/>
            <a:ext cx="4076640" cy="35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Функции плагина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6908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еспечение функциональности под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аивание собственного пользовательского интерфейса в приложение (меню, кнопки, окна, в т.ч «докабельные»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заимодействие с другими плагина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страивание собственных окон настройки в единый интерфейс програм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 Black"/>
              </a:rPr>
              <a:t>Инфраструктура приложения (хоста) обеспечивает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: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859464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заимодействие плагина с объектной моделью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правление регистрацией и временем жизни (загрузки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выгрузки) плаг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зможность встраивания интерфейсных элементов плагинов (кнопки, меню, ок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доступ к настройк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ая обработка сообщений об ошибк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Единообразный стиль пользовательского интерфей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В ближайшей перспективе – единая среда настрой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риложения - хосты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3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Интегр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едак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Электронный журна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Тренажер по оперативным переключения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Аниматор сх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79480" y="54403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Один и тот же плагин можно подключать к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любому приложению - хост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385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Привязка схем к СКАДА-системе. </a:t>
            </a: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OPC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63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Для каждой подсистемы 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разрабатывается пара </a:t>
            </a:r>
            <a:br>
              <a:rPr sz="2800"/>
            </a:b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Редактор - Плагин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31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едактор – осуществляет привязку схемы к источнику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лагин – осуществляет доступ от схемы к источнику данных в соответствии с подготовленными редактором настройкам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Интеграция с БД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858960"/>
            <a:ext cx="6516720" cy="59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ривязка к СУБД по ключам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474040" cy="3538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324000" y="1773360"/>
            <a:ext cx="82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80" y="5734080"/>
            <a:ext cx="886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Технология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LinksXeme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зволяет привязать имеющуюся у </a:t>
            </a:r>
            <a:br>
              <a:rPr sz="2400"/>
            </a:b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ользователя БД БЕЗ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ffff00"/>
                </a:solidFill>
                <a:latin typeface="Arial"/>
              </a:rPr>
              <a:t>ПРОГРАММИРОВА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Arial Black"/>
              </a:rPr>
              <a:t>Понятие интеграции </a:t>
            </a:r>
            <a:endParaRPr b="1" lang="en-US" sz="44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7720" y="1844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бычное понимание – обмен стандартизованными данными (данные СУБД, телемеханическая информац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 контексте доклада – обеспечение единой </a:t>
            </a: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схемно – ориентированной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реды работы диспетчера, либо технолог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а – </a:t>
            </a:r>
            <a:r>
              <a:rPr b="0" i="1" lang="ru-RU" sz="2800" spc="-1" strike="noStrike" u="sng">
                <a:solidFill>
                  <a:srgbClr val="ccecff"/>
                </a:solidFill>
                <a:uFillTx/>
                <a:latin typeface="Arial"/>
              </a:rPr>
              <a:t>не замен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существующих уже внедренных систем, а предоставление единообразного доступа к данным этих систем из единого пользовательского интерфей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Возможные Применения </a:t>
            </a: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ActivesXem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52156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гласование имеющихся у пользователя баз данных с элементами схе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ображение актуального состояния элементов схемы и параметров режима. Источниками информации могут быть как ОИК, так и база данных, программы расчета и анализа режима сети и т.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ние графического интерфейса расчетных программ. Отображение результатов расчетов на схеме, как в виде текста, так и в форме показаний макетов прибор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танционное управление объектом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т состояния схем в процессе обработки и согласования заявок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СУБД, ОИК, </a:t>
            </a:r>
            <a:r>
              <a:rPr b="1" i="1" lang="en-US" sz="2400" spc="-1" strike="noStrike">
                <a:solidFill>
                  <a:srgbClr val="ccecff"/>
                </a:solidFill>
                <a:latin typeface="Arial"/>
              </a:rPr>
              <a:t>SCADA</a:t>
            </a: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, АСКУЭ, ГИС, </a:t>
            </a:r>
            <a:br>
              <a:rPr sz="2400"/>
            </a:b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РАСЧЕТЫ, ЗАЯВКИ, ТРЕНАЖЕРЫ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хемно - ориентированная граф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f8f8"/>
                </a:solidFill>
                <a:latin typeface="Arial Black"/>
              </a:rPr>
              <a:t>Базовая функциональность </a:t>
            </a:r>
            <a:r>
              <a:rPr b="1" lang="en-US" sz="3600" spc="-1" strike="noStrike">
                <a:solidFill>
                  <a:srgbClr val="f8f8f8"/>
                </a:solidFill>
                <a:latin typeface="Arial Black"/>
              </a:rPr>
              <a:t>ActivesXeme</a:t>
            </a:r>
            <a:endParaRPr b="1" lang="en-US" sz="36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341000"/>
            <a:ext cx="8007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грузка и отображение схемы из файла данных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чать изобра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ереход по связям элементов схем (гиперссылкам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нтерфейс управления отображением - масштабирование, прокрутка, детализац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Быстрый поиск участков схемы с использованием окна навига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ступ программы к элементам схемы по их идентификаторам (свойства, топология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оиск и показ элемента по идентификатор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ступ к элементу под курсором мыш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Изменение состояния элементов схем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бработку реакции приложения на нажатие клавиши мыши в поле схемы и на переход по гиперссылк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ображение обесточенных участков схем в соответствии с коммутационной модель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Настройка вида схемы в соответствии со стандартами, принятыми в организации пользовател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Проекты сторонних разработчиков</a:t>
            </a:r>
            <a:r>
              <a:rPr b="1" lang="en-US" sz="4000" spc="-1" strike="noStrike">
                <a:solidFill>
                  <a:srgbClr val="f8f8f8"/>
                </a:solidFill>
                <a:latin typeface="Arial Black"/>
              </a:rPr>
              <a:t>  </a:t>
            </a: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с использованием графической системы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24000" y="2133360"/>
            <a:ext cx="80071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ИК «Диспетчер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ИК «Котми» - ( НТЦ ЭЦМ ) использование схемной графики как средства отображения в О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мплекс «Пегас» -  (СамГТУ г.Самара) Информационно-аналитический комплекс решения технологических задач управления режимами работы системы электроснабж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сего около 50 организаций – разработчиков и энергетических предприятий в течении 5 л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59464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esXeme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обеспечивает возможность повторного использования схемной графики в приложениях других разработчик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ffff"/>
                </a:solidFill>
                <a:latin typeface="Arial"/>
              </a:rPr>
              <a:t>Но вообще –то  этого мало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Функциональность привязки к конкретным внешним источникам и хранилищам данных остается на разработчике прикладной систем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f8f8"/>
                </a:solidFill>
                <a:latin typeface="Arial Black"/>
              </a:rPr>
              <a:t>Функциональность «снаружи»</a:t>
            </a:r>
            <a:r>
              <a:rPr b="1" lang="en-US" sz="2800" spc="-1" strike="noStrike">
                <a:solidFill>
                  <a:srgbClr val="f8f8f8"/>
                </a:solidFill>
                <a:latin typeface="Arial Black"/>
              </a:rPr>
              <a:t> ActivesXeme</a:t>
            </a:r>
            <a:endParaRPr b="1" lang="en-US" sz="28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59464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вигация по схемам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открывание, гиперссылки, закладки , поиск и т.п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вязь с БД объектов предприятия – </a:t>
            </a:r>
            <a:r>
              <a:rPr b="0" i="1" lang="ru-RU" sz="2800" spc="-1" strike="noStrike">
                <a:solidFill>
                  <a:srgbClr val="ffffff"/>
                </a:solidFill>
                <a:latin typeface="Arial"/>
              </a:rPr>
              <a:t>выбор объекта в БД, показ данных по выбранному объекту Б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dcc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имация состояния элементов схемы (функци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CADA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8f8f8"/>
                </a:solidFill>
                <a:latin typeface="Arial Black"/>
              </a:rPr>
              <a:t>Открытая плагинная архитектура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10" name=""/>
          <p:cNvSpPr/>
          <p:nvPr/>
        </p:nvSpPr>
        <p:spPr>
          <a:xfrm>
            <a:off x="900000" y="2133720"/>
            <a:ext cx="1440000" cy="718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00000" y="292428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х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00000" y="378936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00000" y="1341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ого в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00000" y="4724280"/>
            <a:ext cx="1440000" cy="79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виг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х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360" y="1268280"/>
            <a:ext cx="2016360" cy="18003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92360" y="1268280"/>
            <a:ext cx="2808360" cy="180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аз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функциона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ло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360" y="306864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42900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92360" y="378936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92360" y="414972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450864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340000" y="1700280"/>
            <a:ext cx="1152360" cy="151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92360" y="486900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236000" y="1268280"/>
            <a:ext cx="1657080" cy="936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архивы Т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236000" y="2349360"/>
            <a:ext cx="1657080" cy="11527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Инструкции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573408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ер. зада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360" y="522936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492360" y="558972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92360" y="5950080"/>
            <a:ext cx="2808360" cy="360360"/>
          </a:xfrm>
          <a:prstGeom prst="rect">
            <a:avLst/>
          </a:prstGeom>
          <a:solidFill>
            <a:srgbClr val="6699ff"/>
          </a:solidFill>
          <a:ln w="255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8720" y="3645000"/>
            <a:ext cx="1657440" cy="115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340000" y="2421000"/>
            <a:ext cx="1079640" cy="107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0000" y="3284640"/>
            <a:ext cx="1152360" cy="64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1280" y="422100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411280" y="4652640"/>
            <a:ext cx="100836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340000" y="5084280"/>
            <a:ext cx="1152360" cy="10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6300720" y="1628640"/>
            <a:ext cx="935280" cy="3745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300720" y="2852640"/>
            <a:ext cx="935280" cy="29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300720" y="4221000"/>
            <a:ext cx="1008000" cy="194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686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8f8f8"/>
                </a:solidFill>
                <a:latin typeface="Arial Black"/>
              </a:rPr>
              <a:t>Исходные данные и потоки данных</a:t>
            </a:r>
            <a:endParaRPr b="1" lang="en-US" sz="3200" spc="-1" strike="noStrike">
              <a:solidFill>
                <a:srgbClr val="f8f8f8"/>
              </a:solidFill>
              <a:latin typeface="Arial Black"/>
            </a:endParaRPr>
          </a:p>
        </p:txBody>
      </p:sp>
      <p:sp>
        <p:nvSpPr>
          <p:cNvPr id="140" name=""/>
          <p:cNvSpPr/>
          <p:nvPr/>
        </p:nvSpPr>
        <p:spPr>
          <a:xfrm>
            <a:off x="4932360" y="1197000"/>
            <a:ext cx="1417680" cy="121428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Хранилищ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2700360" y="3355920"/>
            <a:ext cx="1872720" cy="1297080"/>
            <a:chOff x="2700360" y="3355920"/>
            <a:chExt cx="1872720" cy="1297080"/>
          </a:xfrm>
        </p:grpSpPr>
        <p:sp>
          <p:nvSpPr>
            <p:cNvPr id="142" name=""/>
            <p:cNvSpPr/>
            <p:nvPr/>
          </p:nvSpPr>
          <p:spPr>
            <a:xfrm>
              <a:off x="2700360" y="3355920"/>
              <a:ext cx="1584000" cy="86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КАД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44720" y="3571920"/>
              <a:ext cx="1584000" cy="86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КАД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89080" y="3789360"/>
              <a:ext cx="1584000" cy="863640"/>
            </a:xfrm>
            <a:prstGeom prst="roundRect">
              <a:avLst>
                <a:gd name="adj" fmla="val 16667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КАДА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сервер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877080" y="1268280"/>
            <a:ext cx="2016000" cy="5256360"/>
          </a:xfrm>
          <a:prstGeom prst="rect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Диспетчер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нформацион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932360" y="3645000"/>
            <a:ext cx="1440000" cy="71892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А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32360" y="4797360"/>
            <a:ext cx="1440000" cy="79236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нешних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9640" y="1197000"/>
            <a:ext cx="1728720" cy="1152360"/>
          </a:xfrm>
          <a:prstGeom prst="flowChartProcess">
            <a:avLst/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писок типо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быт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3429000"/>
            <a:ext cx="1728720" cy="1081080"/>
          </a:xfrm>
          <a:prstGeom prst="flowChartProcess">
            <a:avLst/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вяз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 СКАД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5157720"/>
            <a:ext cx="1728720" cy="1150920"/>
          </a:xfrm>
          <a:prstGeom prst="flowChartProcess">
            <a:avLst/>
          </a:prstGeom>
          <a:solidFill>
            <a:srgbClr val="6699ff"/>
          </a:solidFill>
          <a:ln cap="rnd" w="255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ерархия схем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вязки 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нешним Б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932360" y="5734080"/>
            <a:ext cx="1440000" cy="79200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ерарх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хе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771640" y="5157720"/>
            <a:ext cx="1584360" cy="1223640"/>
            <a:chOff x="2771640" y="5157720"/>
            <a:chExt cx="1584360" cy="1223640"/>
          </a:xfrm>
        </p:grpSpPr>
        <p:sp>
          <p:nvSpPr>
            <p:cNvPr id="153" name=""/>
            <p:cNvSpPr/>
            <p:nvPr/>
          </p:nvSpPr>
          <p:spPr>
            <a:xfrm>
              <a:off x="2771640" y="5157720"/>
              <a:ext cx="1439640" cy="97884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916000" y="5402160"/>
              <a:ext cx="1440000" cy="979200"/>
            </a:xfrm>
            <a:prstGeom prst="can">
              <a:avLst>
                <a:gd name="adj" fmla="val 25000"/>
              </a:avLst>
            </a:prstGeom>
            <a:solidFill>
              <a:srgbClr val="339966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Внешняя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БД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2700360" y="1268280"/>
            <a:ext cx="1655640" cy="108108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Д Ручн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вода 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69800" y="3716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41440" y="5589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321300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16360" y="3284640"/>
            <a:ext cx="79560" cy="1368360"/>
          </a:xfrm>
          <a:custGeom>
            <a:avLst/>
            <a:gdLst>
              <a:gd name="textAreaLeft" fmla="*/ 0 w 79560"/>
              <a:gd name="textAreaRight" fmla="*/ 28800 w 79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356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5013360"/>
            <a:ext cx="215640" cy="1440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5013360"/>
            <a:ext cx="79200" cy="1368360"/>
          </a:xfrm>
          <a:custGeom>
            <a:avLst/>
            <a:gdLst>
              <a:gd name="textAreaLeft" fmla="*/ 0 w 79200"/>
              <a:gd name="textAreaRight" fmla="*/ 28440 w 792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372360" y="5157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372360" y="616572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372360" y="1844640"/>
            <a:ext cx="431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59280" y="2565360"/>
            <a:ext cx="1440000" cy="719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чного в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300720" y="2924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69800" y="1484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2492280"/>
            <a:ext cx="1439640" cy="719280"/>
          </a:xfrm>
          <a:prstGeom prst="roundRect">
            <a:avLst>
              <a:gd name="adj" fmla="val 16667"/>
            </a:avLst>
          </a:prstGeom>
          <a:solidFill>
            <a:srgbClr val="96969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г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р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052640"/>
            <a:ext cx="215640" cy="1439640"/>
          </a:xfrm>
          <a:custGeom>
            <a:avLst/>
            <a:gdLst>
              <a:gd name="textAreaLeft" fmla="*/ 137880 w 215640"/>
              <a:gd name="textAreaRight" fmla="*/ 216000 w 21564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123920"/>
            <a:ext cx="79560" cy="1368360"/>
          </a:xfrm>
          <a:custGeom>
            <a:avLst/>
            <a:gdLst>
              <a:gd name="textAreaLeft" fmla="*/ 0 w 79560"/>
              <a:gd name="textAreaRight" fmla="*/ 28800 w 795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484360" y="3284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2484360" y="191628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24360" y="2421000"/>
            <a:ext cx="863640" cy="431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38512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8f8f8"/>
                </a:solidFill>
                <a:latin typeface="Arial Black"/>
              </a:rPr>
              <a:t>Приложение с плагинами</a:t>
            </a:r>
            <a:endParaRPr b="1" lang="en-US" sz="4000" spc="-1" strike="noStrike">
              <a:solidFill>
                <a:srgbClr val="f8f8f8"/>
              </a:solidFill>
              <a:latin typeface="Arial Black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0" y="1197000"/>
          <a:ext cx="9144000" cy="566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197000"/>
                    <a:ext cx="9144000" cy="566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18:01:22Z</dcterms:created>
  <dc:creator>Сергей Амелин</dc:creator>
  <dc:description/>
  <dc:language>en-US</dc:language>
  <cp:lastModifiedBy>SV</cp:lastModifiedBy>
  <dcterms:modified xsi:type="dcterms:W3CDTF">2006-06-03T11:39:48Z</dcterms:modified>
  <cp:revision>133</cp:revision>
  <dc:subject/>
  <dc:title>Slide 1</dc:title>
</cp:coreProperties>
</file>