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CAE-0F07-4A43-8EBF-14FCA246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DD2-B40C-42C3-91DB-155E9C8A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6C9-F619-48C5-A9F0-40BC7FD1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7D2-0DEF-4643-AC24-AF3E0980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529-05CC-4A8A-BB1A-8DE13E61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5F5-F26E-4155-9A23-E354CDF2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244-45FB-44C2-864B-CB857274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C45-DA4F-400F-A11D-242079A9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241-A736-4229-839C-B6AC1594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4D8-8C87-4651-A6D0-9AD45D7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0DE-4BEE-49D9-B3A9-F85D5B0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064-5B75-47A5-839F-A821FEA0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9952-B743-4D9A-80EA-A3B8C9D2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едства отображения для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боты со схемной графикой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характери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жение больших объемов графической информации (схемы) в актуальном состоянии в диспетчерской информационной системе или тренаж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ются следующие средства отобра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раны коллективного пользов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сте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больш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D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D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нито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D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левиз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зменные телевиз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сплуа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ст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место для размещения, кондиционированное по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регулярн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елательно использовать светлый 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е мони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мка между монит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о видеополе для 1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мони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мки между монит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о видеополе для 1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разрешение (измеряется в пиксел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метрический 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или коллекти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о интерактив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емое 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обслужи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и резерв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умов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кран коллектив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24360" y="1483920"/>
            <a:ext cx="3311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создавать полиэкраны огромного разрешения, что обеспечивает высокую информативную емкость полиэкрана. Информация от множества источников может располагаться в динамических окнах, размер и расположение которых можно быстро менять на всем пространстве полиэкрана. Динамические окна могут быть привязаны к определенным областям пространства полиэкрана, сгруппированы в соответствии с зонами ответственности перс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252360" y="692280"/>
            <a:ext cx="939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мультиэкранного отображения данных различного типа Благодаря модульной конструкции из можно конфигурировать применительно к конкретным помещениям и задач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86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Большие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C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-мони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6477120" cy="2381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000" y="422100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дюймов (29.7 дюймов видимый раз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600" y="465300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60 x 1600 точек (оптимально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000" y="5084640"/>
            <a:ext cx="53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ower Mac G5 и графическая карта NVI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3716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Cinema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28680" y="50846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ox Parhelia DL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ыкновенные мони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количества пикселе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з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392720" cy="277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716360" y="1125360"/>
            <a:ext cx="4065840" cy="272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340000" y="4076640"/>
            <a:ext cx="3274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34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равнение по разме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907920"/>
          <a:ext cx="8785440" cy="5735880"/>
        </p:xfrm>
        <a:graphic>
          <a:graphicData uri="http://schemas.openxmlformats.org/drawingml/2006/table">
            <a:tbl>
              <a:tblPr/>
              <a:tblGrid>
                <a:gridCol w="2448000"/>
                <a:gridCol w="720720"/>
                <a:gridCol w="1511280"/>
                <a:gridCol w="1081080"/>
                <a:gridCol w="1368360"/>
                <a:gridCol w="1656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-во эк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икс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пикселе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ст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мон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0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мон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x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x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К - 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 x 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ма - 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6 x 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410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 от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4149720"/>
          <a:ext cx="8221680" cy="23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149720"/>
                    <a:ext cx="822168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39640" y="907920"/>
          <a:ext cx="8202600" cy="23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907920"/>
                    <a:ext cx="8202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902160" y="314172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стен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21440" y="3141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К-телевиз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46520" y="37162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 мони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8160" y="3716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е мони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562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795240"/>
          <a:ext cx="8605800" cy="5888160"/>
        </p:xfrm>
        <a:graphic>
          <a:graphicData uri="http://schemas.openxmlformats.org/drawingml/2006/table">
            <a:tbl>
              <a:tblPr/>
              <a:tblGrid>
                <a:gridCol w="3033720"/>
                <a:gridCol w="704520"/>
                <a:gridCol w="1764000"/>
                <a:gridCol w="1409760"/>
                <a:gridCol w="1693800"/>
              </a:tblGrid>
              <a:tr h="99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ст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мон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 мон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x25+30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3+1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x0,4+0,5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службы расходников, тыс. 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службы расходников, тыс. 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-ть экспл. Год, ты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-ть резервирования, ты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0+30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0,5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 Amelin</cp:lastModifiedBy>
  <dcterms:modified xsi:type="dcterms:W3CDTF">2007-11-01T09:47:13Z</dcterms:modified>
  <cp:revision>27</cp:revision>
  <dc:subject/>
  <dc:title>PowerPoint Presentation</dc:title>
</cp:coreProperties>
</file>