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794-F34B-430A-B429-34F81164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C4C-92AA-4F04-B93B-A53EE658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5B4-474B-4E09-B06F-832AE9C8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4B6-F505-46EF-9184-F0D47D78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D14-641F-4177-8193-2BC06D4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467-9527-4DA5-8E35-8BDE75C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982-1EAD-4938-9013-8B31F768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FD6-A9DF-408E-B528-511DAE2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43D-0598-4A57-9885-CBFFC725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D5C-283C-4D93-86B7-6FDB82EA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025-2A3B-4501-94E1-EC099A1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CCD-4FF2-444E-9A7E-1E9555E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977-0997-4518-A2F4-77A1FDC4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Конвертация схем из </a:t>
            </a: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VISIO 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в формат </a:t>
            </a: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S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4292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324000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Схема в формате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67520" y="333360"/>
            <a:ext cx="435492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Вспомогательные схемы в формате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S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51280" y="333360"/>
            <a:ext cx="287280" cy="287280"/>
            <a:chOff x="3851280" y="333360"/>
            <a:chExt cx="287280" cy="287280"/>
          </a:xfrm>
        </p:grpSpPr>
        <p:sp>
          <p:nvSpPr>
            <p:cNvPr id="46" name=""/>
            <p:cNvSpPr/>
            <p:nvPr/>
          </p:nvSpPr>
          <p:spPr>
            <a:xfrm>
              <a:off x="3995640" y="333360"/>
              <a:ext cx="0" cy="2872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1280" y="476280"/>
              <a:ext cx="2872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V="1" rot="16200000">
            <a:off x="3922920" y="-315000"/>
            <a:ext cx="432000" cy="302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773360"/>
            <a:ext cx="367200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Конвертор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vsd – sde (visio2sde.d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276640"/>
            <a:ext cx="0" cy="122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25720" y="4076640"/>
            <a:ext cx="242424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Схема в формате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S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Пример конвертации схемы, построенной с помощью шабл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8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лева – фрагмент схемы в формате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VISIO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права – тот же фрагмент, сконвертированный в формат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Результат получен с помощью нашего конвертора без последующей пр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038840" cy="27511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038840" cy="32385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Подготовка сх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5373720"/>
            <a:ext cx="8569080" cy="122400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Для корректной конвертации схема должна быть приготовлена с минимальным использованием примитивов (линий, кружочков, многоугольников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На рисунке выделен объект схемы, которому соответствует шаблон (</a:t>
            </a:r>
            <a:r>
              <a:rPr b="0" lang="en-US" sz="900" spc="-1" strike="noStrike">
                <a:solidFill>
                  <a:srgbClr val="006600"/>
                </a:solidFill>
                <a:latin typeface="Arial"/>
              </a:rPr>
              <a:t>master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Если схема приготовлена без использования шаблонов, но примитивы сгруппированы так, что группа может соответствовать элементу или группе элементов </a:t>
            </a:r>
            <a:r>
              <a:rPr b="0" lang="en-US" sz="9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, то можно каждой группе сопоставить соответствующий набор элементов </a:t>
            </a:r>
            <a:r>
              <a:rPr b="0" lang="en-US" sz="900" spc="-1" strike="noStrike">
                <a:solidFill>
                  <a:srgbClr val="006600"/>
                </a:solidFill>
                <a:latin typeface="Arial"/>
              </a:rPr>
              <a:t>s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Теперь надо создать вспомогательную схему в формате </a:t>
            </a:r>
            <a:r>
              <a:rPr b="0" lang="en-US" sz="9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900" spc="-1" strike="noStrike">
                <a:solidFill>
                  <a:srgbClr val="006600"/>
                </a:solidFill>
                <a:latin typeface="Arial"/>
              </a:rPr>
              <a:t>, на которой будет изображен объект, соответствующий шаблону или группе. Это – основная часть подготовки схем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3524400" cy="2038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80360" y="1700280"/>
            <a:ext cx="409680" cy="67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66440" y="1268280"/>
            <a:ext cx="2340360" cy="24624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Этот шаблон в исходном положе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268280"/>
            <a:ext cx="1728720" cy="94644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Фрагмент схемы, подготовленной с использованием шабл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500280"/>
            <a:ext cx="1728720" cy="94644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Фрагмент схемы, подготовленной с использованием группир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56000" y="3429000"/>
            <a:ext cx="2562120" cy="17524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Подготовка вспомогательных сх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838600" cy="15238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5111640" cy="158436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Список всех используемых шаблонов можно вызвать в схеме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VISIO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 с помощью меню (см.рис. справа). На открывшейся панели надо раскрыть узел «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sters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» (см.рис. внизу). Затем надо создать для каждого шаблона свой файл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, который содержит тот же элемент или группу элементов, которые содержатся в шаблоне. Все вспомогательные файла надо положить в ту же директорию, где находится конвертируемая сх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4941720"/>
            <a:ext cx="5183280" cy="100980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На рисунке приведен пример сопоставления шаблон – схема. Для удобства схеме лучше давать то же название, что и шабл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Можно действовать по-другому. Далее описан автоматический механизм добавления в настройку неопознанных шабл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2778120" cy="25099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5135760" cy="11080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Вызов конвер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176720" cy="1108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3527280" cy="43344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После загрузки редактора вызовите конвертор с помощью главного мен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013360"/>
            <a:ext cx="5904000" cy="151128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Затем выберите файл со схемой в формате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vsd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 или папку, содержащую несколько сх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На вкладке «Файл», если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ini-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файл еще не подготовлен, выберите «с предварительным анализом файла». В этом случае вначале будут проверены все используемые в схеме шаблоны и количество их использований. Если какие-нибудь из используемых шаблонов отсутствуют в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ini-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файле, будет выдан запрос о необходимости занесения их в в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ini-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фай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6610320" cy="2133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941720"/>
            <a:ext cx="2057400" cy="16671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Настро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728880" cy="4032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Следующий шаг – настройка параметров. Данные настройки сохраняются в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ini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-файле. Каждому шаблону надо назначить схем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Список схем строится из директории, в которой находится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ini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-файл. Если файл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 подготовлен, то его надо просто выбрать 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выпадающего списка при клике на соответствующей строке столбца </a:t>
            </a:r>
            <a:r>
              <a:rPr b="0" i="1" lang="ru-RU" sz="1000" spc="-1" strike="noStrike">
                <a:solidFill>
                  <a:srgbClr val="006600"/>
                </a:solidFill>
                <a:latin typeface="Arial"/>
              </a:rPr>
              <a:t>Элемент схемы </a:t>
            </a:r>
            <a:r>
              <a:rPr b="0" i="1" lang="en-US" sz="10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Справа -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готовая таблица соответствия шаблонов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vsd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 схемам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После окончания настройки нажмите кнопку «Пуск» с учетом выбранного способа конвертации (файл или каталог) на вкладке «Файл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484280"/>
          <a:ext cx="4390920" cy="403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84280"/>
                    <a:ext cx="4390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5:16:47Z</dcterms:created>
  <dc:creator>Danilova</dc:creator>
  <dc:description/>
  <dc:language>en-US</dc:language>
  <cp:lastModifiedBy>Irina Danilova</cp:lastModifiedBy>
  <dcterms:modified xsi:type="dcterms:W3CDTF">2009-04-13T11:40:51Z</dcterms:modified>
  <cp:revision>15</cp:revision>
  <dc:subject/>
  <dc:title>Конвертация схем из AutoCAD в формат SDE</dc:title>
</cp:coreProperties>
</file>