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A24-6D2C-4B51-8833-0D108A33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17F-F64D-48AC-B3EB-12604C4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7EA-2813-4AFC-9B57-920DE87C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A5F-36FF-4762-8786-33B4E5F7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832-E4BF-47DA-B8D8-AB83A749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FC2-3625-45B9-8AC8-BB301DC6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B9B-4361-4739-93C8-4C97E4C7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6B2-3E3D-4A47-86F3-EAED107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34D-D996-4F2E-BF60-17EBFF3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C89-1531-4D93-824A-9B97A95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9E-57DE-43FF-B06D-77F8D08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77B-78AC-4C2E-9C5A-66AF215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D0CC-B11A-493B-8973-A462643B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Конвертация схем из </a:t>
            </a: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AutoCAD </a:t>
            </a:r>
            <a:r>
              <a:rPr b="0" lang="ru-RU" sz="4800" spc="-1" strike="noStrike">
                <a:solidFill>
                  <a:srgbClr val="33cc33"/>
                </a:solidFill>
                <a:latin typeface="Arial"/>
              </a:rPr>
              <a:t>в формат </a:t>
            </a: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S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4292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324000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Схема в формате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AutoC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67520" y="333360"/>
            <a:ext cx="435492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Вспомогательные схемы в формате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S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51280" y="333360"/>
            <a:ext cx="287280" cy="287280"/>
            <a:chOff x="3851280" y="333360"/>
            <a:chExt cx="287280" cy="287280"/>
          </a:xfrm>
        </p:grpSpPr>
        <p:sp>
          <p:nvSpPr>
            <p:cNvPr id="46" name=""/>
            <p:cNvSpPr/>
            <p:nvPr/>
          </p:nvSpPr>
          <p:spPr>
            <a:xfrm>
              <a:off x="3995640" y="333360"/>
              <a:ext cx="0" cy="2872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1280" y="476280"/>
              <a:ext cx="2872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V="1" rot="16200000">
            <a:off x="3922920" y="-315000"/>
            <a:ext cx="432000" cy="302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773360"/>
            <a:ext cx="367200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Конвертор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dxf – sde (dxf2sde.d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276640"/>
            <a:ext cx="0" cy="122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25720" y="4076640"/>
            <a:ext cx="2424240" cy="3373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Схема в формате </a:t>
            </a: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S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Пример конвертации схемы, построенной с помощью бло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333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229360"/>
            <a:ext cx="828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лева – фрагмент схемы в формате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utoCAD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права – тот же фрагмент, сконвертированный в формат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Результат получен с помощью нашего конвертора без последующей пр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038840" cy="29480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Подготовка сх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5661000"/>
            <a:ext cx="8569080" cy="9367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Для корректной конвертации схема должна быть приготовлена с минимальным использованием примитивов (линий, кружочков, многоуголь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На рисунке выделен объект схемы, которому соответствует б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Теперь надо создать вспомогательную схему в формате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, на которой будет изображен объект, соответствующий этому блоку. Это – основная часть подготовки сх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610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Соответствие блока элементу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792000"/>
          </a:xfrm>
          <a:prstGeom prst="rect">
            <a:avLst/>
          </a:prstGeom>
          <a:solidFill>
            <a:srgbClr val="e4f3f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Теперь блоку схемы соответствует элемент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. Как показывает опыт, элемент на схеме лучше располагать в точке с координатами (4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Точно так же готовятся вспомогательные схемы для всех блоков. Можно воспользоваться нашими заготовками, которые находятся в папке с прим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3040" y="836640"/>
            <a:ext cx="3365640" cy="453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673440" cy="2454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Вызов конвер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176720" cy="1108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3527280" cy="43344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После загрузки редактора вызовите конвертор с помощью главного мен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924280"/>
            <a:ext cx="3311640" cy="1296720"/>
          </a:xfrm>
          <a:prstGeom prst="rect">
            <a:avLst/>
          </a:prstGeom>
          <a:solidFill>
            <a:srgbClr val="e4f3f4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Затем выберите файл со схемой в формате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xf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 или папку, содержащую несколько сх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На вкладке «Файл» выдается информация о выбранной схеме – версия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utoCAD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, размеры и описание примитивов и бло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2733840"/>
            <a:ext cx="4753080" cy="39542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Настро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229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Следующий шаг – настройка параметров. Данные настройки сохраняются в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ini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-файл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Справа - таблица соответствия блоков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dxf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 схемам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Для наилучшей конвертации надо подобрать сдвиг элемента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sde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 при вставке с учетом поворо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</a:rPr>
              <a:t>После окончания настройки нажмите кнопку «Пуск» с учетом выбранного способа конвертации (файл или каталог) на вкладке «Файл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27427"/>
          <a:stretch/>
        </p:blipFill>
        <p:spPr>
          <a:xfrm>
            <a:off x="1403280" y="1125360"/>
            <a:ext cx="6712200" cy="40323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5:16:47Z</dcterms:created>
  <dc:creator>Danilova</dc:creator>
  <dc:description/>
  <dc:language>en-US</dc:language>
  <cp:lastModifiedBy>Danilova</cp:lastModifiedBy>
  <dcterms:modified xsi:type="dcterms:W3CDTF">2007-04-13T15:29:37Z</dcterms:modified>
  <cp:revision>13</cp:revision>
  <dc:subject/>
  <dc:title>Конвертация схем из AutoCAD в формат SDE</dc:title>
</cp:coreProperties>
</file>